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Rectangle 4" descr=""/>
          <p:cNvPicPr/>
          <p:nvPr/>
        </p:nvPicPr>
        <p:blipFill>
          <a:blip r:embed="rId3"/>
          <a:stretch/>
        </p:blipFill>
        <p:spPr>
          <a:xfrm>
            <a:off x="7510320" y="6361200"/>
            <a:ext cx="1182960" cy="18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60560" y="1969920"/>
            <a:ext cx="6880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200" spc="-1" strike="noStrike">
                <a:solidFill>
                  <a:srgbClr val="ff5e3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pic>
        <p:nvPicPr>
          <p:cNvPr id="40" name="Rectangle 4" descr=""/>
          <p:cNvPicPr/>
          <p:nvPr/>
        </p:nvPicPr>
        <p:blipFill>
          <a:blip r:embed="rId3"/>
          <a:stretch/>
        </p:blipFill>
        <p:spPr>
          <a:xfrm>
            <a:off x="7510320" y="6361200"/>
            <a:ext cx="1182960" cy="187200"/>
          </a:xfrm>
          <a:prstGeom prst="rect">
            <a:avLst/>
          </a:prstGeom>
          <a:ln w="0">
            <a:noFill/>
          </a:ln>
        </p:spPr>
      </p:pic>
      <p:pic>
        <p:nvPicPr>
          <p:cNvPr id="41" name="Rectangle 4134" descr=""/>
          <p:cNvPicPr/>
          <p:nvPr/>
        </p:nvPicPr>
        <p:blipFill>
          <a:blip r:embed="rId4"/>
          <a:stretch/>
        </p:blipFill>
        <p:spPr>
          <a:xfrm>
            <a:off x="289080" y="1057320"/>
            <a:ext cx="4282920" cy="1630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ff5e32"/>
              </a:buClr>
              <a:buSzPct val="135000"/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spcAft>
                <a:spcPts val="400"/>
              </a:spcAft>
              <a:buClr>
                <a:srgbClr val="ff5e32"/>
              </a:buClr>
              <a:buSzPct val="135000"/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400"/>
              </a:spcAft>
              <a:buClr>
                <a:srgbClr val="ff5e32"/>
              </a:buClr>
              <a:buSzPct val="135000"/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60560" y="1969920"/>
            <a:ext cx="6880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200" spc="-1" strike="noStrike">
                <a:solidFill>
                  <a:srgbClr val="ff5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5e32"/>
                </a:solidFill>
                <a:latin typeface="Arial"/>
              </a:rPr>
              <a:t>DEV223: LINQ Overview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982880" y="3685680"/>
            <a:ext cx="6881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ers Hejlsber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Fello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Corp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510320" y="6361200"/>
            <a:ext cx="1182960" cy="187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89080" y="1057320"/>
            <a:ext cx="4282920" cy="1630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LINQ to SQL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0240" y="1413000"/>
            <a:ext cx="835668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uage integrated data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s tables and rows to classes and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s on ADO.NET and .NET Trans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ded in attributes or external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onships map to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ic change trac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dates through SQL or stored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LINQ to XML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ing XML today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1828800"/>
            <a:ext cx="6405480" cy="4663800"/>
          </a:xfrm>
          <a:prstGeom prst="rect">
            <a:avLst/>
          </a:prstGeom>
          <a:solidFill>
            <a:srgbClr val="808080">
              <a:alpha val="34000"/>
            </a:srgbClr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Document doc = new XmlDocume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Element contacts = doc.CreateElement("contacts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ach (Customer c in custome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c.Country == "USA"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Element e = doc.CreateElement("contact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Element name = doc.CreateElement("name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.InnerText = c.Company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AppendChild(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Element phone = doc.CreateElement("phone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ne.InnerText = c.Pho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AppendChild(phon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s.AppendChild(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.AppendChild(contac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4941720"/>
            <a:ext cx="2881080" cy="1371600"/>
          </a:xfrm>
          <a:prstGeom prst="rect">
            <a:avLst/>
          </a:prstGeom>
          <a:solidFill>
            <a:srgbClr val="808080">
              <a:alpha val="34000"/>
            </a:srgbClr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b1b"/>
                </a:solidFill>
                <a:latin typeface="Arial"/>
              </a:rPr>
              <a:t>&lt;contacts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b1b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eb1b"/>
                </a:solidFill>
                <a:latin typeface="Arial"/>
              </a:rPr>
              <a:t>&lt;contac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b1b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eb1b"/>
                </a:solidFill>
                <a:latin typeface="Arial"/>
              </a:rPr>
              <a:t>&lt;name&gt;Great Lakes Food&lt;/na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b1b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eb1b"/>
                </a:solidFill>
                <a:latin typeface="Arial"/>
              </a:rPr>
              <a:t>&lt;phone&gt;(503) 555-7123&lt;/phon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b1b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eb1b"/>
                </a:solidFill>
                <a:latin typeface="Arial"/>
              </a:rPr>
              <a:t>&lt;/contac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b1b"/>
                </a:solidFill>
                <a:latin typeface="Arial"/>
              </a:rPr>
              <a:t>  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b1b"/>
                </a:solidFill>
                <a:latin typeface="Arial"/>
              </a:rPr>
              <a:t>&lt;/contacts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48360" y="1484280"/>
            <a:ext cx="1905120" cy="838080"/>
          </a:xfrm>
          <a:prstGeom prst="wedgeRoundRectCallout">
            <a:avLst>
              <a:gd name="adj1" fmla="val -88333"/>
              <a:gd name="adj2" fmla="val 25189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erativ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48360" y="2565360"/>
            <a:ext cx="1905120" cy="838080"/>
          </a:xfrm>
          <a:prstGeom prst="wedgeRoundRectCallout">
            <a:avLst>
              <a:gd name="adj1" fmla="val -95916"/>
              <a:gd name="adj2" fmla="val -42800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ume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48360" y="3645000"/>
            <a:ext cx="1905120" cy="838080"/>
          </a:xfrm>
          <a:prstGeom prst="wedgeRoundRectCallout">
            <a:avLst>
              <a:gd name="adj1" fmla="val -85250"/>
              <a:gd name="adj2" fmla="val -35986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integrated qu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48360" y="4724280"/>
            <a:ext cx="1905120" cy="838440"/>
          </a:xfrm>
          <a:prstGeom prst="wedgeRoundRectCallout">
            <a:avLst>
              <a:gd name="adj1" fmla="val -90166"/>
              <a:gd name="adj2" fmla="val -53032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ory int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LINQ to XML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ing XML with LINQ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828800"/>
            <a:ext cx="6046920" cy="2469240"/>
          </a:xfrm>
          <a:prstGeom prst="rect">
            <a:avLst/>
          </a:prstGeom>
          <a:solidFill>
            <a:srgbClr val="808080">
              <a:alpha val="34000"/>
            </a:srgbClr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XElement contacts = new XElement("contacts"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from c in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where c.Country == "USA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select new XElement("contact"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new XElement("name", c.CompanyName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new XElement("phone", c.Pho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1341360"/>
            <a:ext cx="1905120" cy="838440"/>
          </a:xfrm>
          <a:prstGeom prst="wedgeRoundRectCallout">
            <a:avLst>
              <a:gd name="adj1" fmla="val -88916"/>
              <a:gd name="adj2" fmla="val 45833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larative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88000" y="2349360"/>
            <a:ext cx="1905120" cy="838440"/>
          </a:xfrm>
          <a:prstGeom prst="wedgeRoundRectCallout">
            <a:avLst>
              <a:gd name="adj1" fmla="val -95416"/>
              <a:gd name="adj2" fmla="val -46782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88000" y="3357720"/>
            <a:ext cx="1905120" cy="838080"/>
          </a:xfrm>
          <a:prstGeom prst="wedgeRoundRectCallout">
            <a:avLst>
              <a:gd name="adj1" fmla="val -86166"/>
              <a:gd name="adj2" fmla="val -54736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ted qu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88000" y="4365720"/>
            <a:ext cx="1905120" cy="838080"/>
          </a:xfrm>
          <a:prstGeom prst="wedgeRoundRectCallout">
            <a:avLst>
              <a:gd name="adj1" fmla="val -97083"/>
              <a:gd name="adj2" fmla="val -71592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aller and fa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LINQ To XML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0240" y="1413000"/>
            <a:ext cx="835668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uage integrated query for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ressive power of XPath / XQu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ith C# or VB as programming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rages experience with 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al 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 centric, not document cent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ified XML namespace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no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ster and sma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60560" y="1969920"/>
            <a:ext cx="6880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200" spc="-1" strike="noStrike">
                <a:solidFill>
                  <a:srgbClr val="ff5e32"/>
                </a:solidFill>
                <a:latin typeface="Arial"/>
              </a:rPr>
              <a:t>LINQ to SQL + LINQ to XML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982880" y="3685680"/>
            <a:ext cx="6881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87400"/>
            <a:ext cx="9144000" cy="1317600"/>
          </a:xfrm>
          <a:prstGeom prst="rect">
            <a:avLst/>
          </a:prstGeom>
          <a:gradFill rotWithShape="0">
            <a:gsLst>
              <a:gs pos="0">
                <a:srgbClr val="ffffff">
                  <a:alpha val="25098"/>
                </a:srgbClr>
              </a:gs>
              <a:gs pos="100000">
                <a:srgbClr val="000000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66560" y="1049400"/>
            <a:ext cx="3143520" cy="99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 flipH="1">
            <a:off x="3885840" y="4114800"/>
            <a:ext cx="68580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028840" y="4114800"/>
            <a:ext cx="22860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4114800"/>
            <a:ext cx="22860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114800"/>
            <a:ext cx="68580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819520" y="4114440"/>
            <a:ext cx="304560" cy="7621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2286000"/>
            <a:ext cx="45720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590920" y="2286000"/>
            <a:ext cx="45720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LINQ Architecture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276720"/>
            <a:ext cx="3505320" cy="838080"/>
          </a:xfrm>
          <a:prstGeom prst="rect">
            <a:avLst/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.Query.Enumerab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Deleg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3000" y="2514600"/>
            <a:ext cx="22579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</a:rPr>
              <a:t>Source implement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egoe"/>
              </a:rPr>
              <a:t>IEnumerable&lt;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95280"/>
            <a:ext cx="7772400" cy="5212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 query = from c in customers where c.State == "WA" select c.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1752480"/>
            <a:ext cx="7913520" cy="5212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 query = customers.Where(c =&gt; c.State == "WA").Select(c =&gt; c.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1447920"/>
            <a:ext cx="457200" cy="761760"/>
          </a:xfrm>
          <a:custGeom>
            <a:avLst/>
            <a:gdLst>
              <a:gd name="textAreaLeft" fmla="*/ 61200 w 457200"/>
              <a:gd name="textAreaRight" fmla="*/ 396000 w 4572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3276720"/>
            <a:ext cx="3505320" cy="838080"/>
          </a:xfrm>
          <a:prstGeom prst="rect">
            <a:avLst/>
          </a:prstGeom>
          <a:solidFill>
            <a:srgbClr val="91dc56">
              <a:alpha val="50000"/>
            </a:srgbClr>
          </a:solidFill>
          <a:ln w="12600">
            <a:solidFill>
              <a:srgbClr val="91d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.Query.Queryab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Expression Tr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03600" y="2514600"/>
            <a:ext cx="22579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</a:rPr>
              <a:t>Source implement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egoe"/>
              </a:rPr>
              <a:t>IQueryable&lt;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91120" y="4876920"/>
            <a:ext cx="1447560" cy="761760"/>
          </a:xfrm>
          <a:prstGeom prst="rect">
            <a:avLst/>
          </a:prstGeom>
          <a:solidFill>
            <a:srgbClr val="ff5e32">
              <a:alpha val="50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</a:rPr>
              <a:t>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4876920"/>
            <a:ext cx="1447560" cy="761760"/>
          </a:xfrm>
          <a:prstGeom prst="rect">
            <a:avLst/>
          </a:prstGeom>
          <a:solidFill>
            <a:srgbClr val="ff5e32">
              <a:alpha val="50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</a:rPr>
              <a:t>Data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4876920"/>
            <a:ext cx="1447560" cy="761760"/>
          </a:xfrm>
          <a:prstGeom prst="rect">
            <a:avLst/>
          </a:prstGeom>
          <a:solidFill>
            <a:srgbClr val="ff5e32">
              <a:alpha val="50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</a:rPr>
              <a:t>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391520" y="4876920"/>
            <a:ext cx="1447560" cy="761760"/>
          </a:xfrm>
          <a:prstGeom prst="rect">
            <a:avLst/>
          </a:prstGeom>
          <a:solidFill>
            <a:srgbClr val="ff5e32">
              <a:alpha val="50000"/>
            </a:srgbClr>
          </a:solidFill>
          <a:ln w="12600">
            <a:solidFill>
              <a:srgbClr val="ff5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</a:rPr>
              <a:t>Other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LINQ Component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uage Integrated Query for 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ve query syntax in C# 3.0 and VB 9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Q to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QL-like queries for any .NET col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Q to 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ry enabled data access frame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Q to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ry enabled, smaller, faster XML D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LINQ Innovation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fied query and transform of objects, relational,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QL and XQuery-like power natively in C# and V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checking, IntelliSense, refactoring for quer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5e32"/>
              </a:buClr>
              <a:buSzPct val="13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bility model for languages and A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More Information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11280" y="1197000"/>
          <a:ext cx="7993080" cy="4286160"/>
        </p:xfrm>
        <a:graphic>
          <a:graphicData uri="http://schemas.openxmlformats.org/drawingml/2006/table">
            <a:tbl>
              <a:tblPr/>
              <a:tblGrid>
                <a:gridCol w="2524680"/>
                <a:gridCol w="2734920"/>
                <a:gridCol w="2733480"/>
              </a:tblGrid>
              <a:tr h="57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es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dnes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urs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5e32"/>
                          </a:solidFill>
                          <a:latin typeface="Arial"/>
                        </a:rPr>
                        <a:t>DEV222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# Through the Ag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:15 - 15:3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m 1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5e32"/>
                          </a:solidFill>
                          <a:latin typeface="Arial"/>
                        </a:rPr>
                        <a:t>DEV323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# 3.0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:00 - 10:15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m 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5e32"/>
                          </a:solidFill>
                          <a:latin typeface="Arial"/>
                        </a:rPr>
                        <a:t>DEV306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NQ to SQ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:00 - 10: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m 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8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5e32"/>
                          </a:solidFill>
                          <a:latin typeface="Arial"/>
                        </a:rPr>
                        <a:t>DEV223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NQ Overview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:00 - 17: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m 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5e32"/>
                          </a:solidFill>
                          <a:latin typeface="Arial"/>
                        </a:rPr>
                        <a:t>DEVWD12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re C#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:30 - 14:4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m 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5e32"/>
                          </a:solidFill>
                          <a:latin typeface="Arial"/>
                        </a:rPr>
                        <a:t>DEV216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# Tips and Trick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:45 - 19:00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m 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5e32"/>
                          </a:solidFill>
                          <a:latin typeface="Arial"/>
                        </a:rPr>
                        <a:t>DEV323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# 3.0 (Repeat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:00 - 18:15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m 1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1041480" y="5734080"/>
            <a:ext cx="7031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b1b"/>
                </a:solidFill>
                <a:latin typeface="Arial"/>
              </a:rPr>
              <a:t>http://msdn.microsoft.com/netframework/future/lin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887400"/>
            <a:ext cx="9144000" cy="1317600"/>
          </a:xfrm>
          <a:prstGeom prst="rect">
            <a:avLst/>
          </a:prstGeom>
          <a:gradFill rotWithShape="0">
            <a:gsLst>
              <a:gs pos="0">
                <a:srgbClr val="ffffff">
                  <a:alpha val="25098"/>
                </a:srgbClr>
              </a:gs>
              <a:gs pos="100000">
                <a:srgbClr val="000000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66560" y="1093680"/>
            <a:ext cx="2629080" cy="11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421000"/>
            <a:ext cx="914400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!=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324611" descr=""/>
          <p:cNvPicPr/>
          <p:nvPr/>
        </p:nvPicPr>
        <p:blipFill>
          <a:blip r:embed="rId2"/>
          <a:stretch/>
        </p:blipFill>
        <p:spPr>
          <a:xfrm>
            <a:off x="1719360" y="2343240"/>
            <a:ext cx="5705280" cy="217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26658"/>
          <p:cNvSpPr/>
          <p:nvPr/>
        </p:nvSpPr>
        <p:spPr>
          <a:xfrm>
            <a:off x="1643040" y="3971880"/>
            <a:ext cx="579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2006 Microsoft Corporation. All rights reserved.</a:t>
            </a:r>
            <a:br>
              <a:rPr sz="1000"/>
            </a:br>
            <a:r>
              <a:rPr b="1" lang="en-US" sz="1000" spc="-1" strike="noStrike">
                <a:solidFill>
                  <a:srgbClr val="ff5e32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ff5e32"/>
                </a:solidFill>
                <a:latin typeface="Arial"/>
                <a:ea typeface="Arial"/>
              </a:rPr>
              <a:t>This presentation is for informational purposes only.</a:t>
            </a:r>
            <a:br>
              <a:rPr sz="1000"/>
            </a:br>
            <a:r>
              <a:rPr b="1" lang="en-US" sz="1000" spc="-1" strike="noStrike">
                <a:solidFill>
                  <a:srgbClr val="ff5e32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ff5e32"/>
                </a:solidFill>
                <a:latin typeface="Arial"/>
                <a:ea typeface="Arial"/>
              </a:rPr>
              <a:t>MICROSOFT MAKES NO WARRANTIES, EXPRESS OR IMPLIED, IN THIS SUMMAR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Rectangle 326659" descr=""/>
          <p:cNvPicPr/>
          <p:nvPr/>
        </p:nvPicPr>
        <p:blipFill>
          <a:blip r:embed="rId2"/>
          <a:stretch/>
        </p:blipFill>
        <p:spPr>
          <a:xfrm>
            <a:off x="1909800" y="3006720"/>
            <a:ext cx="5324400" cy="84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The LINQ Project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209680"/>
            <a:ext cx="8424720" cy="2156040"/>
          </a:xfrm>
          <a:prstGeom prst="roundRect">
            <a:avLst>
              <a:gd name="adj" fmla="val 9375"/>
            </a:avLst>
          </a:prstGeom>
          <a:solidFill>
            <a:srgbClr val="808080">
              <a:alpha val="25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4360" y="4729320"/>
            <a:ext cx="1523880" cy="1711080"/>
            <a:chOff x="684360" y="4729320"/>
            <a:chExt cx="1523880" cy="1711080"/>
          </a:xfrm>
        </p:grpSpPr>
        <p:sp>
          <p:nvSpPr>
            <p:cNvPr id="87" name=""/>
            <p:cNvSpPr/>
            <p:nvPr/>
          </p:nvSpPr>
          <p:spPr>
            <a:xfrm>
              <a:off x="1217520" y="4729320"/>
              <a:ext cx="381240" cy="380880"/>
            </a:xfrm>
            <a:prstGeom prst="ellipse">
              <a:avLst/>
            </a:prstGeom>
            <a:solidFill>
              <a:srgbClr val="91dc56">
                <a:alpha val="50000"/>
              </a:srgbClr>
            </a:solidFill>
            <a:ln w="25560">
              <a:solidFill>
                <a:srgbClr val="91d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0320" y="5327640"/>
              <a:ext cx="381240" cy="380520"/>
            </a:xfrm>
            <a:prstGeom prst="ellipse">
              <a:avLst/>
            </a:prstGeom>
            <a:solidFill>
              <a:srgbClr val="91dc56">
                <a:alpha val="50000"/>
              </a:srgbClr>
            </a:solidFill>
            <a:ln w="25560">
              <a:solidFill>
                <a:srgbClr val="91d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4720" y="5327640"/>
              <a:ext cx="381240" cy="380520"/>
            </a:xfrm>
            <a:prstGeom prst="ellipse">
              <a:avLst/>
            </a:prstGeom>
            <a:solidFill>
              <a:srgbClr val="91dc56">
                <a:alpha val="50000"/>
              </a:srgbClr>
            </a:solidFill>
            <a:ln w="25560">
              <a:solidFill>
                <a:srgbClr val="91d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0" name=""/>
            <p:cNvCxnSpPr>
              <a:stCxn id="88" idx="7"/>
              <a:endCxn id="87" idx="3"/>
            </p:cNvCxnSpPr>
            <p:nvPr/>
          </p:nvCxnSpPr>
          <p:spPr>
            <a:xfrm flipV="1">
              <a:off x="1085400" y="5067000"/>
              <a:ext cx="188280" cy="303120"/>
            </a:xfrm>
            <a:prstGeom prst="straightConnector1">
              <a:avLst/>
            </a:prstGeom>
            <a:ln w="25560">
              <a:solidFill>
                <a:srgbClr val="91dc56"/>
              </a:solidFill>
              <a:miter/>
            </a:ln>
          </p:spPr>
        </p:cxnSp>
        <p:cxnSp>
          <p:nvCxnSpPr>
            <p:cNvPr id="91" name=""/>
            <p:cNvCxnSpPr>
              <a:stCxn id="89" idx="1"/>
              <a:endCxn id="87" idx="5"/>
            </p:cNvCxnSpPr>
            <p:nvPr/>
          </p:nvCxnSpPr>
          <p:spPr>
            <a:xfrm flipH="1" flipV="1">
              <a:off x="1542240" y="5067000"/>
              <a:ext cx="188280" cy="303120"/>
            </a:xfrm>
            <a:prstGeom prst="straightConnector1">
              <a:avLst/>
            </a:prstGeom>
            <a:ln w="25560">
              <a:solidFill>
                <a:srgbClr val="91dc56"/>
              </a:solidFill>
              <a:miter/>
            </a:ln>
          </p:spPr>
        </p:cxnSp>
        <p:sp>
          <p:nvSpPr>
            <p:cNvPr id="92" name=""/>
            <p:cNvSpPr/>
            <p:nvPr/>
          </p:nvSpPr>
          <p:spPr>
            <a:xfrm>
              <a:off x="684360" y="586080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164360" y="4576680"/>
            <a:ext cx="1143000" cy="1874880"/>
            <a:chOff x="7164360" y="4576680"/>
            <a:chExt cx="1143000" cy="1874880"/>
          </a:xfrm>
        </p:grpSpPr>
        <p:sp>
          <p:nvSpPr>
            <p:cNvPr id="94" name=""/>
            <p:cNvSpPr/>
            <p:nvPr/>
          </p:nvSpPr>
          <p:spPr>
            <a:xfrm>
              <a:off x="7164360" y="4576680"/>
              <a:ext cx="1143000" cy="1255680"/>
            </a:xfrm>
            <a:prstGeom prst="foldedCorner">
              <a:avLst>
                <a:gd name="adj" fmla="val 12500"/>
              </a:avLst>
            </a:prstGeom>
            <a:solidFill>
              <a:srgbClr val="91dc56">
                <a:alpha val="50000"/>
              </a:srgbClr>
            </a:solidFill>
            <a:ln w="25560">
              <a:solidFill>
                <a:srgbClr val="91d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&lt;book&gt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&lt;title/&gt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&lt;author/&gt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&lt;year/&gt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&lt;price/&gt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&lt;/book&gt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64360" y="587196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M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68360" y="2276640"/>
            <a:ext cx="8001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NET Language Integrated Qu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2193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4797e2">
              <a:alpha val="50000"/>
            </a:srgbClr>
          </a:solidFill>
          <a:ln w="2556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# 3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2193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4797e2">
              <a:alpha val="50000"/>
            </a:srgbClr>
          </a:solidFill>
          <a:ln w="2556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B 9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2193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4797e2">
              <a:alpha val="50000"/>
            </a:srgbClr>
          </a:solidFill>
          <a:ln w="2556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29000" y="4653000"/>
            <a:ext cx="2209680" cy="1798920"/>
            <a:chOff x="3429000" y="4653000"/>
            <a:chExt cx="2209680" cy="1798920"/>
          </a:xfrm>
        </p:grpSpPr>
        <p:sp>
          <p:nvSpPr>
            <p:cNvPr id="101" name=""/>
            <p:cNvSpPr/>
            <p:nvPr/>
          </p:nvSpPr>
          <p:spPr>
            <a:xfrm>
              <a:off x="4038480" y="4653000"/>
              <a:ext cx="990720" cy="838440"/>
            </a:xfrm>
            <a:prstGeom prst="flowChartMagneticDisk">
              <a:avLst/>
            </a:prstGeom>
            <a:solidFill>
              <a:srgbClr val="91dc56">
                <a:alpha val="50000"/>
              </a:srgbClr>
            </a:solidFill>
            <a:ln w="25560">
              <a:solidFill>
                <a:srgbClr val="91d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29000" y="4957920"/>
              <a:ext cx="990720" cy="838080"/>
            </a:xfrm>
            <a:prstGeom prst="flowChartMagneticDisk">
              <a:avLst/>
            </a:prstGeom>
            <a:solidFill>
              <a:srgbClr val="91dc56">
                <a:alpha val="50000"/>
              </a:srgbClr>
            </a:solidFill>
            <a:ln w="25560">
              <a:solidFill>
                <a:srgbClr val="91d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9000" y="5872320"/>
              <a:ext cx="220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lation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48320" y="4957920"/>
              <a:ext cx="990360" cy="838080"/>
            </a:xfrm>
            <a:prstGeom prst="flowChartMagneticDisk">
              <a:avLst/>
            </a:prstGeom>
            <a:solidFill>
              <a:srgbClr val="91dc56">
                <a:alpha val="50000"/>
              </a:srgbClr>
            </a:solidFill>
            <a:ln w="25560">
              <a:solidFill>
                <a:srgbClr val="91d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84360" y="3068640"/>
            <a:ext cx="1366560" cy="998640"/>
          </a:xfrm>
          <a:prstGeom prst="roundRect">
            <a:avLst>
              <a:gd name="adj" fmla="val 16667"/>
            </a:avLst>
          </a:prstGeom>
          <a:solidFill>
            <a:srgbClr val="4797e2">
              <a:alpha val="50000"/>
            </a:srgbClr>
          </a:solidFill>
          <a:ln w="2556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Q 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2720" y="3068640"/>
            <a:ext cx="1366920" cy="998640"/>
          </a:xfrm>
          <a:prstGeom prst="roundRect">
            <a:avLst>
              <a:gd name="adj" fmla="val 16667"/>
            </a:avLst>
          </a:prstGeom>
          <a:solidFill>
            <a:srgbClr val="4797e2">
              <a:alpha val="50000"/>
            </a:srgbClr>
          </a:solidFill>
          <a:ln w="2556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Q 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21440" y="3068640"/>
            <a:ext cx="1366920" cy="998640"/>
          </a:xfrm>
          <a:prstGeom prst="roundRect">
            <a:avLst>
              <a:gd name="adj" fmla="val 16667"/>
            </a:avLst>
          </a:prstGeom>
          <a:solidFill>
            <a:srgbClr val="4797e2">
              <a:alpha val="50000"/>
            </a:srgbClr>
          </a:solidFill>
          <a:ln w="2556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Q 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7080" y="3068640"/>
            <a:ext cx="1366920" cy="998640"/>
          </a:xfrm>
          <a:prstGeom prst="roundRect">
            <a:avLst>
              <a:gd name="adj" fmla="val 16667"/>
            </a:avLst>
          </a:prstGeom>
          <a:solidFill>
            <a:srgbClr val="4797e2">
              <a:alpha val="50000"/>
            </a:srgbClr>
          </a:solidFill>
          <a:ln w="2556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Q 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3068640"/>
            <a:ext cx="1366920" cy="998640"/>
          </a:xfrm>
          <a:prstGeom prst="roundRect">
            <a:avLst>
              <a:gd name="adj" fmla="val 16667"/>
            </a:avLst>
          </a:prstGeom>
          <a:solidFill>
            <a:srgbClr val="4797e2">
              <a:alpha val="50000"/>
            </a:srgbClr>
          </a:solidFill>
          <a:ln w="2556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Q 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60560" y="1969920"/>
            <a:ext cx="6880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200" spc="-1" strike="noStrike">
                <a:solidFill>
                  <a:srgbClr val="ff5e32"/>
                </a:solidFill>
                <a:latin typeface="Arial"/>
              </a:rPr>
              <a:t>LINQ to Objects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982880" y="3685680"/>
            <a:ext cx="6881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87400"/>
            <a:ext cx="9144000" cy="1317600"/>
          </a:xfrm>
          <a:prstGeom prst="rect">
            <a:avLst/>
          </a:prstGeom>
          <a:gradFill rotWithShape="0">
            <a:gsLst>
              <a:gs pos="0">
                <a:srgbClr val="ffffff">
                  <a:alpha val="25098"/>
                </a:srgbClr>
              </a:gs>
              <a:gs pos="100000">
                <a:srgbClr val="000000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6560" y="1049400"/>
            <a:ext cx="3143520" cy="99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C# 3.0 Language Innovation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79280" y="1442880"/>
            <a:ext cx="484416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 contacts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c in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c.State == "WA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 new { c.Name, c.Phone 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7480" y="3805200"/>
            <a:ext cx="577836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 contacts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Where(c =&gt; c.State == "WA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Select(c =&gt; new { c.Name, c.Phone }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43000" y="4162320"/>
            <a:ext cx="466920" cy="57240"/>
          </a:xfrm>
          <a:custGeom>
            <a:avLst/>
            <a:gdLst/>
            <a:ahLst/>
            <a:rect l="l" t="t" r="r" b="b"/>
            <a:pathLst>
              <a:path w="294" h="36">
                <a:moveTo>
                  <a:pt x="0" y="31"/>
                </a:moveTo>
                <a:cubicBezTo>
                  <a:pt x="84" y="0"/>
                  <a:pt x="177" y="36"/>
                  <a:pt x="262" y="9"/>
                </a:cubicBezTo>
                <a:cubicBezTo>
                  <a:pt x="294" y="17"/>
                  <a:pt x="292" y="6"/>
                  <a:pt x="292" y="2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90760" y="4869000"/>
            <a:ext cx="960480" cy="95040"/>
          </a:xfrm>
          <a:custGeom>
            <a:avLst/>
            <a:gdLst/>
            <a:ahLst/>
            <a:rect l="l" t="t" r="r" b="b"/>
            <a:pathLst>
              <a:path w="605" h="60">
                <a:moveTo>
                  <a:pt x="0" y="60"/>
                </a:moveTo>
                <a:cubicBezTo>
                  <a:pt x="157" y="0"/>
                  <a:pt x="417" y="60"/>
                  <a:pt x="605" y="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5257800"/>
            <a:ext cx="960480" cy="95400"/>
          </a:xfrm>
          <a:custGeom>
            <a:avLst/>
            <a:gdLst/>
            <a:ahLst/>
            <a:rect l="l" t="t" r="r" b="b"/>
            <a:pathLst>
              <a:path w="605" h="60">
                <a:moveTo>
                  <a:pt x="0" y="60"/>
                </a:moveTo>
                <a:cubicBezTo>
                  <a:pt x="157" y="0"/>
                  <a:pt x="417" y="60"/>
                  <a:pt x="605" y="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4876920"/>
            <a:ext cx="2743200" cy="114120"/>
          </a:xfrm>
          <a:custGeom>
            <a:avLst/>
            <a:gdLst/>
            <a:ahLst/>
            <a:rect l="l" t="t" r="r" b="b"/>
            <a:pathLst>
              <a:path w="1823" h="58">
                <a:moveTo>
                  <a:pt x="0" y="41"/>
                </a:moveTo>
                <a:cubicBezTo>
                  <a:pt x="128" y="48"/>
                  <a:pt x="263" y="58"/>
                  <a:pt x="387" y="19"/>
                </a:cubicBezTo>
                <a:cubicBezTo>
                  <a:pt x="531" y="26"/>
                  <a:pt x="673" y="35"/>
                  <a:pt x="817" y="41"/>
                </a:cubicBezTo>
                <a:cubicBezTo>
                  <a:pt x="1006" y="34"/>
                  <a:pt x="1165" y="24"/>
                  <a:pt x="1356" y="19"/>
                </a:cubicBezTo>
                <a:cubicBezTo>
                  <a:pt x="1416" y="0"/>
                  <a:pt x="1365" y="13"/>
                  <a:pt x="1495" y="19"/>
                </a:cubicBezTo>
                <a:cubicBezTo>
                  <a:pt x="1687" y="28"/>
                  <a:pt x="1659" y="26"/>
                  <a:pt x="1823" y="2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40120" y="5357880"/>
            <a:ext cx="2500560" cy="46080"/>
          </a:xfrm>
          <a:custGeom>
            <a:avLst/>
            <a:gdLst/>
            <a:ahLst/>
            <a:rect l="l" t="t" r="r" b="b"/>
            <a:pathLst>
              <a:path w="1575" h="29">
                <a:moveTo>
                  <a:pt x="0" y="0"/>
                </a:moveTo>
                <a:cubicBezTo>
                  <a:pt x="253" y="22"/>
                  <a:pt x="529" y="3"/>
                  <a:pt x="780" y="7"/>
                </a:cubicBezTo>
                <a:cubicBezTo>
                  <a:pt x="967" y="25"/>
                  <a:pt x="1154" y="10"/>
                  <a:pt x="1341" y="29"/>
                </a:cubicBezTo>
                <a:cubicBezTo>
                  <a:pt x="1349" y="29"/>
                  <a:pt x="1509" y="14"/>
                  <a:pt x="1575" y="1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" bIns="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56120" y="5334120"/>
            <a:ext cx="566640" cy="11160"/>
          </a:xfrm>
          <a:custGeom>
            <a:avLst/>
            <a:gdLst/>
            <a:ahLst/>
            <a:rect l="l" t="t" r="r" b="b"/>
            <a:pathLst>
              <a:path w="357" h="7">
                <a:moveTo>
                  <a:pt x="0" y="0"/>
                </a:moveTo>
                <a:cubicBezTo>
                  <a:pt x="119" y="2"/>
                  <a:pt x="238" y="7"/>
                  <a:pt x="357" y="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4560" bIns="-34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981080"/>
            <a:ext cx="1295280" cy="312444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546840 h 3124440"/>
              <a:gd name="textAreaBottom" fmla="*/ 22654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257800"/>
            <a:ext cx="1524240" cy="914400"/>
          </a:xfrm>
          <a:prstGeom prst="wedgeRoundRectCallout">
            <a:avLst>
              <a:gd name="adj1" fmla="val 74583"/>
              <a:gd name="adj2" fmla="val -67884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sion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3200400"/>
            <a:ext cx="1676520" cy="914400"/>
          </a:xfrm>
          <a:prstGeom prst="wedgeRoundRectCallout">
            <a:avLst>
              <a:gd name="adj1" fmla="val -61648"/>
              <a:gd name="adj2" fmla="val 103995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mbda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1219320"/>
            <a:ext cx="1905120" cy="914400"/>
          </a:xfrm>
          <a:prstGeom prst="wedgeRoundRectCallout">
            <a:avLst>
              <a:gd name="adj1" fmla="val -87750"/>
              <a:gd name="adj2" fmla="val 44967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ry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5562720"/>
            <a:ext cx="1676520" cy="914400"/>
          </a:xfrm>
          <a:prstGeom prst="wedgeRoundRectCallout">
            <a:avLst>
              <a:gd name="adj1" fmla="val -79356"/>
              <a:gd name="adj2" fmla="val -57986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initializ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5562720"/>
            <a:ext cx="1676520" cy="914400"/>
          </a:xfrm>
          <a:prstGeom prst="wedgeRoundRectCallout">
            <a:avLst>
              <a:gd name="adj1" fmla="val 74430"/>
              <a:gd name="adj2" fmla="val -64759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onymous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6320" y="2125800"/>
            <a:ext cx="631800" cy="83880"/>
          </a:xfrm>
          <a:custGeom>
            <a:avLst/>
            <a:gdLst/>
            <a:ahLst/>
            <a:rect l="l" t="t" r="r" b="b"/>
            <a:pathLst>
              <a:path w="430" h="49">
                <a:moveTo>
                  <a:pt x="0" y="49"/>
                </a:moveTo>
                <a:cubicBezTo>
                  <a:pt x="148" y="0"/>
                  <a:pt x="12" y="43"/>
                  <a:pt x="430" y="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160" bIns="38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25680" y="2532240"/>
            <a:ext cx="774720" cy="74520"/>
          </a:xfrm>
          <a:custGeom>
            <a:avLst/>
            <a:gdLst/>
            <a:ahLst/>
            <a:rect l="l" t="t" r="r" b="b"/>
            <a:pathLst>
              <a:path w="540" h="30">
                <a:moveTo>
                  <a:pt x="0" y="30"/>
                </a:moveTo>
                <a:cubicBezTo>
                  <a:pt x="179" y="0"/>
                  <a:pt x="357" y="18"/>
                  <a:pt x="540" y="1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8800" bIns="28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4520" y="2949480"/>
            <a:ext cx="752400" cy="42840"/>
          </a:xfrm>
          <a:custGeom>
            <a:avLst/>
            <a:gdLst/>
            <a:ahLst/>
            <a:rect l="l" t="t" r="r" b="b"/>
            <a:pathLst>
              <a:path w="518" h="20">
                <a:moveTo>
                  <a:pt x="0" y="20"/>
                </a:moveTo>
                <a:cubicBezTo>
                  <a:pt x="164" y="18"/>
                  <a:pt x="327" y="17"/>
                  <a:pt x="491" y="13"/>
                </a:cubicBezTo>
                <a:cubicBezTo>
                  <a:pt x="518" y="12"/>
                  <a:pt x="502" y="0"/>
                  <a:pt x="515" y="1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438280"/>
            <a:ext cx="1904760" cy="914400"/>
          </a:xfrm>
          <a:prstGeom prst="wedgeRoundRectCallout">
            <a:avLst>
              <a:gd name="adj1" fmla="val 44750"/>
              <a:gd name="adj2" fmla="val 102083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 variable type in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LINQ To Objects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09480" y="1219320"/>
          <a:ext cx="7925040" cy="4971960"/>
        </p:xfrm>
        <a:graphic>
          <a:graphicData uri="http://schemas.openxmlformats.org/drawingml/2006/table">
            <a:tbl>
              <a:tblPr/>
              <a:tblGrid>
                <a:gridCol w="2362320"/>
                <a:gridCol w="5562720"/>
              </a:tblGrid>
              <a:tr h="414720"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tri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eb1b"/>
                          </a:solidFill>
                          <a:latin typeface="Arial"/>
                        </a:rPr>
                        <a:t>Whe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eb1b"/>
                          </a:solidFill>
                          <a:latin typeface="Arial"/>
                        </a:rPr>
                        <a:t>Select, SelectMa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de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eb1b"/>
                          </a:solidFill>
                          <a:latin typeface="Arial"/>
                        </a:rPr>
                        <a:t>OrderBy, ThenB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eb1b"/>
                          </a:solidFill>
                          <a:latin typeface="Arial"/>
                        </a:rPr>
                        <a:t>GroupB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i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eb1b"/>
                          </a:solidFill>
                          <a:latin typeface="Arial"/>
                        </a:rPr>
                        <a:t>Join, GroupJo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ntifi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eb1b"/>
                          </a:solidFill>
                          <a:latin typeface="Arial"/>
                        </a:rPr>
                        <a:t>Any, A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tio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eb1b"/>
                          </a:solidFill>
                          <a:latin typeface="Arial"/>
                        </a:rPr>
                        <a:t>Take, Skip, TakeWhile, SkipW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eb1b"/>
                          </a:solidFill>
                          <a:latin typeface="Arial"/>
                        </a:rPr>
                        <a:t>Distinct, Union, Intersect, Exc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eb1b"/>
                          </a:solidFill>
                          <a:latin typeface="Arial"/>
                        </a:rPr>
                        <a:t>First, Last, Single, Element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greg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eb1b"/>
                          </a:solidFill>
                          <a:latin typeface="Arial"/>
                        </a:rPr>
                        <a:t>Count, Sum, Min, Max, Aver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ver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eb1b"/>
                          </a:solidFill>
                          <a:latin typeface="Arial"/>
                        </a:rPr>
                        <a:t>ToArray, ToList, ToDiction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182880" tIns="54720" bIns="547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eb1b"/>
                          </a:solidFill>
                          <a:latin typeface="Arial"/>
                        </a:rPr>
                        <a:t>OfType&lt;T&gt;, Cast&lt;T&gt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Deferred Query Execution</a:t>
            </a:r>
            <a:endParaRPr b="0" lang="en-US" sz="36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295280"/>
            <a:ext cx="8153280" cy="5212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[] custs = SampleData.GetCustomers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80880" y="3268800"/>
            <a:ext cx="1752840" cy="3284280"/>
            <a:chOff x="380880" y="3268800"/>
            <a:chExt cx="1752840" cy="3284280"/>
          </a:xfrm>
        </p:grpSpPr>
        <p:sp>
          <p:nvSpPr>
            <p:cNvPr id="138" name=""/>
            <p:cNvSpPr/>
            <p:nvPr/>
          </p:nvSpPr>
          <p:spPr>
            <a:xfrm>
              <a:off x="457200" y="3733920"/>
              <a:ext cx="1676520" cy="2819160"/>
            </a:xfrm>
            <a:prstGeom prst="rect">
              <a:avLst/>
            </a:prstGeom>
            <a:solidFill>
              <a:srgbClr val="91dc56">
                <a:alpha val="50000"/>
              </a:srgbClr>
            </a:solidFill>
            <a:ln w="25560">
              <a:solidFill>
                <a:srgbClr val="91d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880" y="32688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us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6148440"/>
              <a:ext cx="457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90720" y="6148440"/>
              <a:ext cx="457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" y="6148440"/>
              <a:ext cx="3049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7920" y="5929200"/>
              <a:ext cx="457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0720" y="5929200"/>
              <a:ext cx="457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5929200"/>
              <a:ext cx="304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7920" y="5710320"/>
              <a:ext cx="457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720" y="5710320"/>
              <a:ext cx="457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5710320"/>
              <a:ext cx="3049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47920" y="5491080"/>
              <a:ext cx="457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90720" y="5491080"/>
              <a:ext cx="457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5491080"/>
              <a:ext cx="304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47920" y="5272200"/>
              <a:ext cx="457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0720" y="5272200"/>
              <a:ext cx="457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" y="5272200"/>
              <a:ext cx="3049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5052960"/>
              <a:ext cx="457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90720" y="5052960"/>
              <a:ext cx="457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5052960"/>
              <a:ext cx="304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7920" y="4834080"/>
              <a:ext cx="457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4834080"/>
              <a:ext cx="457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5800" y="4834080"/>
              <a:ext cx="3049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7920" y="4614840"/>
              <a:ext cx="457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90720" y="4614840"/>
              <a:ext cx="457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5800" y="4614840"/>
              <a:ext cx="304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47920" y="4414680"/>
              <a:ext cx="4572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90720" y="4414680"/>
              <a:ext cx="4572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5800" y="4414680"/>
              <a:ext cx="304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47920" y="4191120"/>
              <a:ext cx="4572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90720" y="4191120"/>
              <a:ext cx="4572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" y="4191120"/>
              <a:ext cx="30492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7920" y="39625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algn="ctr"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Phon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39625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algn="ctr"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5800" y="3962520"/>
              <a:ext cx="304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algn="ctr"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ID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5800" y="3962520"/>
              <a:ext cx="1219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5800" y="419112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" y="441468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461484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5800" y="483408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800" y="505296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800" y="527220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549108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800" y="6367320"/>
              <a:ext cx="1219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800" y="3962520"/>
              <a:ext cx="0" cy="24048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0720" y="3962520"/>
              <a:ext cx="0" cy="24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7920" y="3962520"/>
              <a:ext cx="0" cy="24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05120" y="3962520"/>
              <a:ext cx="0" cy="24048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" y="571032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" y="592920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" y="614844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09480" y="1752480"/>
            <a:ext cx="7925040" cy="5212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 query = from c in custs where c.City == "London" select c.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696080" cy="5212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 query = custs.Where(c =&gt; c.City == "London").Select(c =&gt; c.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114440" y="3886200"/>
            <a:ext cx="2286360" cy="1556640"/>
            <a:chOff x="4114440" y="3886200"/>
            <a:chExt cx="2286360" cy="1556640"/>
          </a:xfrm>
        </p:grpSpPr>
        <p:sp>
          <p:nvSpPr>
            <p:cNvPr id="192" name=""/>
            <p:cNvSpPr/>
            <p:nvPr/>
          </p:nvSpPr>
          <p:spPr>
            <a:xfrm>
              <a:off x="5181480" y="4343400"/>
              <a:ext cx="1067040" cy="457200"/>
            </a:xfrm>
            <a:prstGeom prst="rect">
              <a:avLst/>
            </a:prstGeom>
            <a:solidFill>
              <a:srgbClr val="91dc56">
                <a:alpha val="50000"/>
              </a:srgbClr>
            </a:solidFill>
            <a:ln w="25560">
              <a:solidFill>
                <a:srgbClr val="91d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05520" y="38862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le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114440" y="4572000"/>
              <a:ext cx="1600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29200" y="5105520"/>
              <a:ext cx="1371600" cy="337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 =&gt; c.Na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715000" y="4800240"/>
              <a:ext cx="0" cy="3049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828800" y="2666880"/>
            <a:ext cx="4952880" cy="521280"/>
          </a:xfrm>
          <a:prstGeom prst="rect">
            <a:avLst/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ng[] names = query.ToArray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82040" y="3268800"/>
            <a:ext cx="1752480" cy="3284280"/>
            <a:chOff x="6782040" y="3268800"/>
            <a:chExt cx="1752480" cy="3284280"/>
          </a:xfrm>
        </p:grpSpPr>
        <p:sp>
          <p:nvSpPr>
            <p:cNvPr id="199" name=""/>
            <p:cNvSpPr/>
            <p:nvPr/>
          </p:nvSpPr>
          <p:spPr>
            <a:xfrm>
              <a:off x="6858000" y="3733920"/>
              <a:ext cx="1676520" cy="2819160"/>
            </a:xfrm>
            <a:prstGeom prst="rect">
              <a:avLst/>
            </a:prstGeom>
            <a:solidFill>
              <a:srgbClr val="91dc56">
                <a:alpha val="50000"/>
              </a:srgbClr>
            </a:solidFill>
            <a:ln w="25560">
              <a:solidFill>
                <a:srgbClr val="91d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82040" y="326880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am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48720" y="6148440"/>
              <a:ext cx="457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91520" y="6148440"/>
              <a:ext cx="457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86600" y="6148440"/>
              <a:ext cx="3049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48720" y="5929200"/>
              <a:ext cx="457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91520" y="5929200"/>
              <a:ext cx="457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86600" y="5929200"/>
              <a:ext cx="304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48720" y="5710320"/>
              <a:ext cx="457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91520" y="5710320"/>
              <a:ext cx="457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86600" y="5710320"/>
              <a:ext cx="3049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848720" y="5491080"/>
              <a:ext cx="457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91520" y="5491080"/>
              <a:ext cx="457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86600" y="5491080"/>
              <a:ext cx="304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48720" y="5272200"/>
              <a:ext cx="457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91520" y="5272200"/>
              <a:ext cx="457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86600" y="5272200"/>
              <a:ext cx="3049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48720" y="5052960"/>
              <a:ext cx="457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91520" y="5052960"/>
              <a:ext cx="457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86600" y="5052960"/>
              <a:ext cx="304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48720" y="4834080"/>
              <a:ext cx="457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91520" y="4834080"/>
              <a:ext cx="457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86600" y="4834080"/>
              <a:ext cx="3049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48720" y="4614840"/>
              <a:ext cx="457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91520" y="4614840"/>
              <a:ext cx="457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86600" y="4614840"/>
              <a:ext cx="304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848720" y="4414680"/>
              <a:ext cx="4572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1520" y="4414680"/>
              <a:ext cx="4572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86600" y="4414680"/>
              <a:ext cx="304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48720" y="4191120"/>
              <a:ext cx="4572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1520" y="4191120"/>
              <a:ext cx="4572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6600" y="4191120"/>
              <a:ext cx="30492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spcBef>
                  <a:spcPts val="150"/>
                </a:spcBef>
                <a:spcAft>
                  <a:spcPts val="150"/>
                </a:spcAft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86600" y="3962520"/>
              <a:ext cx="1219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86600" y="419112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86600" y="441468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86600" y="461484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86600" y="483408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86600" y="505296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86600" y="527220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86600" y="549108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86600" y="6367320"/>
              <a:ext cx="1219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86600" y="3962520"/>
              <a:ext cx="0" cy="24048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05920" y="3962520"/>
              <a:ext cx="0" cy="24048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86600" y="571032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6600" y="592920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86600" y="614844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133360" y="3886200"/>
            <a:ext cx="2667240" cy="2133720"/>
            <a:chOff x="2133360" y="3886200"/>
            <a:chExt cx="2667240" cy="2133720"/>
          </a:xfrm>
        </p:grpSpPr>
        <p:sp>
          <p:nvSpPr>
            <p:cNvPr id="246" name=""/>
            <p:cNvSpPr/>
            <p:nvPr/>
          </p:nvSpPr>
          <p:spPr>
            <a:xfrm>
              <a:off x="3048120" y="4343400"/>
              <a:ext cx="1066680" cy="457200"/>
            </a:xfrm>
            <a:prstGeom prst="rect">
              <a:avLst/>
            </a:prstGeom>
            <a:solidFill>
              <a:srgbClr val="91dc56">
                <a:alpha val="50000"/>
              </a:srgbClr>
            </a:solidFill>
            <a:ln w="25560">
              <a:solidFill>
                <a:srgbClr val="91d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133360" y="4572000"/>
              <a:ext cx="144756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2320" y="5105520"/>
              <a:ext cx="2438280" cy="337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 =&gt; c.City == "London"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581280" y="4800240"/>
              <a:ext cx="0" cy="3049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505320" y="5562720"/>
              <a:ext cx="38088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71800" y="38862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28600" y="1905120"/>
            <a:ext cx="457200" cy="761760"/>
          </a:xfrm>
          <a:custGeom>
            <a:avLst/>
            <a:gdLst>
              <a:gd name="textAreaLeft" fmla="*/ 61200 w 457200"/>
              <a:gd name="textAreaRight" fmla="*/ 396000 w 4572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37339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9237" y="17807"/>
                </a:moveTo>
                <a:arcTo wR="-7179" hR="-7179" stAng="6154481" swAng="-6114946"/>
                <a:lnTo>
                  <a:pt x="1" y="10676"/>
                </a:lnTo>
                <a:arcTo wR="10800" hR="10800" stAng="-10760466" swAng="6114946"/>
                <a:lnTo>
                  <a:pt x="13739" y="-2376"/>
                </a:lnTo>
                <a:lnTo>
                  <a:pt x="17159" y="3008"/>
                </a:lnTo>
                <a:lnTo>
                  <a:pt x="11775" y="642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LINQ to SQL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ing data today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1989000"/>
            <a:ext cx="5688000" cy="4115160"/>
          </a:xfrm>
          <a:prstGeom prst="rect">
            <a:avLst/>
          </a:prstGeom>
          <a:solidFill>
            <a:srgbClr val="808080">
              <a:alpha val="34000"/>
            </a:srgbClr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qlConnection c = new SqlConnection(…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Open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qlCommand cmd = new SqlCommand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@"SELECT c.Name, c.Ph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Customers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c.City = @p0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d.Parameters.AddWithValue("@p0", "London“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Reader dr = c.Execute(cm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le (dr.Read()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ng name = dr.GetString(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ng phone = dr.GetString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Time date = dr.GetDateTime(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Clos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27640" y="1773360"/>
            <a:ext cx="1905120" cy="838080"/>
          </a:xfrm>
          <a:prstGeom prst="wedgeRoundRectCallout">
            <a:avLst>
              <a:gd name="adj1" fmla="val -107750"/>
              <a:gd name="adj2" fmla="val 79546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ries in qu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27640" y="2852640"/>
            <a:ext cx="1905120" cy="838440"/>
          </a:xfrm>
          <a:prstGeom prst="wedgeRoundRectCallout">
            <a:avLst>
              <a:gd name="adj1" fmla="val -86500"/>
              <a:gd name="adj2" fmla="val 57574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sely bound arg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27640" y="3933720"/>
            <a:ext cx="1905120" cy="838440"/>
          </a:xfrm>
          <a:prstGeom prst="wedgeRoundRectCallout">
            <a:avLst>
              <a:gd name="adj1" fmla="val -126333"/>
              <a:gd name="adj2" fmla="val 30870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sely typed result 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27640" y="5013360"/>
            <a:ext cx="1905120" cy="838080"/>
          </a:xfrm>
          <a:prstGeom prst="wedgeRoundRectCallout">
            <a:avLst>
              <a:gd name="adj1" fmla="val -111083"/>
              <a:gd name="adj2" fmla="val -17615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compile time chec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1981080"/>
            <a:ext cx="5038560" cy="2194920"/>
          </a:xfrm>
          <a:prstGeom prst="rect">
            <a:avLst/>
          </a:prstGeom>
          <a:solidFill>
            <a:srgbClr val="808080">
              <a:alpha val="34000"/>
            </a:srgbClr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class Customer { …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class Northwind : Data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Table&lt;Customer&gt; Customer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4343400"/>
            <a:ext cx="5038560" cy="1646280"/>
          </a:xfrm>
          <a:prstGeom prst="rect">
            <a:avLst/>
          </a:prstGeom>
          <a:solidFill>
            <a:srgbClr val="808080">
              <a:alpha val="34000"/>
            </a:srgbClr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thwind db = new Northwind(…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 contacts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c in db.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c.City == "London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new { c.Name, c.Phone 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3600" spc="-1" strike="noStrike">
                <a:solidFill>
                  <a:srgbClr val="ff5e32"/>
                </a:solidFill>
                <a:latin typeface="Arial"/>
              </a:rPr>
              <a:t>LINQ to SQL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ing data with LINQ</a:t>
            </a:r>
            <a:endParaRPr b="0" lang="en-US" sz="3200" spc="-1" strike="noStrike">
              <a:solidFill>
                <a:srgbClr val="ff5e3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1628640"/>
            <a:ext cx="1905120" cy="838440"/>
          </a:xfrm>
          <a:prstGeom prst="wedgeRoundRectCallout">
            <a:avLst>
              <a:gd name="adj1" fmla="val -104500"/>
              <a:gd name="adj2" fmla="val 25189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es describe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80000" y="3645000"/>
            <a:ext cx="1905120" cy="838080"/>
          </a:xfrm>
          <a:prstGeom prst="wedgeRoundRectCallout">
            <a:avLst>
              <a:gd name="adj1" fmla="val -99583"/>
              <a:gd name="adj2" fmla="val 54925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ongly typed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80000" y="4653000"/>
            <a:ext cx="1905120" cy="838080"/>
          </a:xfrm>
          <a:prstGeom prst="wedgeRoundRectCallout">
            <a:avLst>
              <a:gd name="adj1" fmla="val -97833"/>
              <a:gd name="adj2" fmla="val 17990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ted query 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0000" y="5661000"/>
            <a:ext cx="1905120" cy="838080"/>
          </a:xfrm>
          <a:prstGeom prst="wedgeRoundRectCallout">
            <a:avLst>
              <a:gd name="adj1" fmla="val -105166"/>
              <a:gd name="adj2" fmla="val -42236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ongly typed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0000" y="2637000"/>
            <a:ext cx="1905120" cy="838080"/>
          </a:xfrm>
          <a:prstGeom prst="wedgeRoundRectCallout">
            <a:avLst>
              <a:gd name="adj1" fmla="val -83750"/>
              <a:gd name="adj2" fmla="val 34467"/>
              <a:gd name="adj3" fmla="val 16667"/>
            </a:avLst>
          </a:prstGeom>
          <a:solidFill>
            <a:srgbClr val="4797e2">
              <a:alpha val="50000"/>
            </a:srgbClr>
          </a:solidFill>
          <a:ln w="12600">
            <a:solidFill>
              <a:srgbClr val="479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bles are like coll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0:59:58Z</dcterms:created>
  <dc:creator>Anders Hejlsberg</dc:creator>
  <dc:description/>
  <dc:language>en-US</dc:language>
  <cp:lastModifiedBy>713946</cp:lastModifiedBy>
  <dcterms:modified xsi:type="dcterms:W3CDTF">2006-11-07T11:59:37Z</dcterms:modified>
  <cp:revision>18</cp:revision>
  <dc:subject>TechEd Developers 2006</dc:subject>
  <dc:title>LINQ Overview</dc:title>
</cp:coreProperties>
</file>