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Rectangle 4" descr=""/>
          <p:cNvPicPr/>
          <p:nvPr/>
        </p:nvPicPr>
        <p:blipFill>
          <a:blip r:embed="rId3"/>
          <a:stretch/>
        </p:blipFill>
        <p:spPr>
          <a:xfrm>
            <a:off x="7510320" y="6361200"/>
            <a:ext cx="1182960" cy="18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60560" y="1969920"/>
            <a:ext cx="68803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200" spc="-1" strike="noStrike">
                <a:solidFill>
                  <a:srgbClr val="ff5e3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5e32"/>
              </a:solidFill>
              <a:latin typeface="Arial"/>
            </a:endParaRPr>
          </a:p>
        </p:txBody>
      </p:sp>
      <p:pic>
        <p:nvPicPr>
          <p:cNvPr id="40" name="Rectangle 4" descr=""/>
          <p:cNvPicPr/>
          <p:nvPr/>
        </p:nvPicPr>
        <p:blipFill>
          <a:blip r:embed="rId3"/>
          <a:stretch/>
        </p:blipFill>
        <p:spPr>
          <a:xfrm>
            <a:off x="7510320" y="6361200"/>
            <a:ext cx="1182960" cy="187200"/>
          </a:xfrm>
          <a:prstGeom prst="rect">
            <a:avLst/>
          </a:prstGeom>
          <a:ln w="0">
            <a:noFill/>
          </a:ln>
        </p:spPr>
      </p:pic>
      <p:pic>
        <p:nvPicPr>
          <p:cNvPr id="41" name="Rectangle 4134" descr=""/>
          <p:cNvPicPr/>
          <p:nvPr/>
        </p:nvPicPr>
        <p:blipFill>
          <a:blip r:embed="rId4"/>
          <a:stretch/>
        </p:blipFill>
        <p:spPr>
          <a:xfrm>
            <a:off x="289080" y="1057320"/>
            <a:ext cx="4282920" cy="1630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499"/>
              </a:spcAft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spcAft>
                <a:spcPts val="451"/>
              </a:spcAft>
              <a:buClr>
                <a:srgbClr val="ff5e32"/>
              </a:buClr>
              <a:buSzPct val="135000"/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spcAft>
                <a:spcPts val="400"/>
              </a:spcAft>
              <a:buClr>
                <a:srgbClr val="ff5e32"/>
              </a:buClr>
              <a:buSzPct val="135000"/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spcAft>
                <a:spcPts val="400"/>
              </a:spcAft>
              <a:buClr>
                <a:srgbClr val="ff5e32"/>
              </a:buClr>
              <a:buSzPct val="135000"/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Rectangle 4" descr=""/>
          <p:cNvPicPr/>
          <p:nvPr/>
        </p:nvPicPr>
        <p:blipFill>
          <a:blip r:embed="rId3"/>
          <a:stretch/>
        </p:blipFill>
        <p:spPr>
          <a:xfrm>
            <a:off x="7510320" y="6361200"/>
            <a:ext cx="1182960" cy="18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60560" y="1969920"/>
            <a:ext cx="68803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200" spc="-1" strike="noStrike">
                <a:solidFill>
                  <a:srgbClr val="ff5e3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5e32"/>
              </a:solidFill>
              <a:latin typeface="Arial"/>
            </a:endParaRPr>
          </a:p>
        </p:txBody>
      </p:sp>
      <p:pic>
        <p:nvPicPr>
          <p:cNvPr id="119" name="Rectangle 4" descr=""/>
          <p:cNvPicPr/>
          <p:nvPr/>
        </p:nvPicPr>
        <p:blipFill>
          <a:blip r:embed="rId3"/>
          <a:stretch/>
        </p:blipFill>
        <p:spPr>
          <a:xfrm>
            <a:off x="7510320" y="6361200"/>
            <a:ext cx="1182960" cy="187200"/>
          </a:xfrm>
          <a:prstGeom prst="rect">
            <a:avLst/>
          </a:prstGeom>
          <a:ln w="0">
            <a:noFill/>
          </a:ln>
        </p:spPr>
      </p:pic>
      <p:pic>
        <p:nvPicPr>
          <p:cNvPr id="120" name="Rectangle 4134" descr=""/>
          <p:cNvPicPr/>
          <p:nvPr/>
        </p:nvPicPr>
        <p:blipFill>
          <a:blip r:embed="rId4"/>
          <a:stretch/>
        </p:blipFill>
        <p:spPr>
          <a:xfrm>
            <a:off x="289080" y="1057320"/>
            <a:ext cx="4282920" cy="1630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499"/>
              </a:spcAft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spcAft>
                <a:spcPts val="451"/>
              </a:spcAft>
              <a:buClr>
                <a:srgbClr val="ff5e32"/>
              </a:buClr>
              <a:buSzPct val="135000"/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spcAft>
                <a:spcPts val="400"/>
              </a:spcAft>
              <a:buClr>
                <a:srgbClr val="ff5e32"/>
              </a:buClr>
              <a:buSzPct val="135000"/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spcAft>
                <a:spcPts val="400"/>
              </a:spcAft>
              <a:buClr>
                <a:srgbClr val="ff5e32"/>
              </a:buClr>
              <a:buSzPct val="135000"/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60560" y="1969920"/>
            <a:ext cx="68803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200" spc="-1" strike="noStrike">
                <a:solidFill>
                  <a:srgbClr val="ff5e32"/>
                </a:solidFill>
                <a:latin typeface="Arial"/>
              </a:rPr>
              <a:t>DEV323: C# 3.0</a:t>
            </a:r>
            <a:endParaRPr b="0" lang="en-US" sz="32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982880" y="3685680"/>
            <a:ext cx="6881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ers Hejlsber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Fellow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Corpo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510320" y="6361200"/>
            <a:ext cx="1182960" cy="187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89080" y="1057320"/>
            <a:ext cx="4282920" cy="1630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Lambda Expressions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341360"/>
            <a:ext cx="6697440" cy="290700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class My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static void Main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&lt;Customer&gt; customers = GetCustomerLis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&lt;Customer&gt; locals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ers.FindAll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egate(Customer c) { return c.State == "WA"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Lambda Expressions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1341360"/>
            <a:ext cx="6697440" cy="235836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class My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static void Main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&lt;Customer&gt; customers = GetCustomerLis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&lt;Customer&gt; locals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ers.FindAll(c =&gt; c.State == "WA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6000" y="3029040"/>
            <a:ext cx="2149560" cy="15840"/>
          </a:xfrm>
          <a:custGeom>
            <a:avLst/>
            <a:gdLst/>
            <a:ahLst/>
            <a:rect l="l" t="t" r="r" b="b"/>
            <a:pathLst>
              <a:path w="1354" h="10">
                <a:moveTo>
                  <a:pt x="0" y="10"/>
                </a:moveTo>
                <a:cubicBezTo>
                  <a:pt x="763" y="0"/>
                  <a:pt x="311" y="4"/>
                  <a:pt x="1354" y="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880" bIns="-29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24360" y="3860640"/>
            <a:ext cx="1895400" cy="762120"/>
          </a:xfrm>
          <a:prstGeom prst="wedgeRoundRectCallout">
            <a:avLst>
              <a:gd name="adj1" fmla="val -53518"/>
              <a:gd name="adj2" fmla="val -143958"/>
              <a:gd name="adj3" fmla="val 16667"/>
            </a:avLst>
          </a:prstGeom>
          <a:solidFill>
            <a:srgbClr val="91dc56">
              <a:alpha val="50000"/>
            </a:srgbClr>
          </a:solidFill>
          <a:ln w="12600">
            <a:solidFill>
              <a:srgbClr val="91d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mbda expr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60560" y="1969920"/>
            <a:ext cx="68803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200" spc="-1" strike="noStrike">
                <a:solidFill>
                  <a:srgbClr val="ff5e32"/>
                </a:solidFill>
                <a:latin typeface="Arial"/>
              </a:rPr>
              <a:t>Lambda Expressions and</a:t>
            </a:r>
            <a:br>
              <a:rPr sz="3200"/>
            </a:br>
            <a:r>
              <a:rPr b="0" lang="en-US" sz="3200" spc="-1" strike="noStrike">
                <a:solidFill>
                  <a:srgbClr val="ff5e32"/>
                </a:solidFill>
                <a:latin typeface="Arial"/>
              </a:rPr>
              <a:t>Extension Methods</a:t>
            </a:r>
            <a:endParaRPr b="0" lang="en-US" sz="32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982880" y="3685680"/>
            <a:ext cx="6881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887400"/>
            <a:ext cx="9144000" cy="1317600"/>
          </a:xfrm>
          <a:prstGeom prst="rect">
            <a:avLst/>
          </a:prstGeom>
          <a:gradFill rotWithShape="0">
            <a:gsLst>
              <a:gs pos="0">
                <a:srgbClr val="ffffff">
                  <a:alpha val="25098"/>
                </a:srgbClr>
              </a:gs>
              <a:gs pos="100000">
                <a:srgbClr val="000000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66560" y="1049400"/>
            <a:ext cx="3143520" cy="99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Object Initializers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1341360"/>
            <a:ext cx="5333760" cy="219492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class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e int x, 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int X { get { return x; } set { x = value; }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int Y { get { return y; } set { y = value; }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92360" y="3789360"/>
            <a:ext cx="4182840" cy="54900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 a = new Point { X = 0, Y = 1 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63640" y="4724280"/>
            <a:ext cx="3962520" cy="109764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 a = new Poin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X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Y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5640" y="3933720"/>
            <a:ext cx="838080" cy="1752840"/>
          </a:xfrm>
          <a:custGeom>
            <a:avLst/>
            <a:gdLst>
              <a:gd name="textAreaLeft" fmla="*/ 112320 w 838080"/>
              <a:gd name="textAreaRight" fmla="*/ 725760 w 83808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54320" y="4164120"/>
            <a:ext cx="532080" cy="27000"/>
          </a:xfrm>
          <a:custGeom>
            <a:avLst/>
            <a:gdLst/>
            <a:ahLst/>
            <a:rect l="l" t="t" r="r" b="b"/>
            <a:pathLst>
              <a:path w="335" h="17">
                <a:moveTo>
                  <a:pt x="0" y="17"/>
                </a:moveTo>
                <a:cubicBezTo>
                  <a:pt x="109" y="0"/>
                  <a:pt x="225" y="17"/>
                  <a:pt x="335" y="1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8720" bIns="-18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53080" y="4183200"/>
            <a:ext cx="498240" cy="10800"/>
          </a:xfrm>
          <a:custGeom>
            <a:avLst/>
            <a:gdLst/>
            <a:ahLst/>
            <a:rect l="l" t="t" r="r" b="b"/>
            <a:pathLst>
              <a:path w="314" h="7">
                <a:moveTo>
                  <a:pt x="0" y="0"/>
                </a:moveTo>
                <a:cubicBezTo>
                  <a:pt x="280" y="7"/>
                  <a:pt x="175" y="7"/>
                  <a:pt x="314" y="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4920" bIns="-34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84720" y="2565360"/>
            <a:ext cx="2362320" cy="914400"/>
          </a:xfrm>
          <a:prstGeom prst="wedgeRoundRectCallout">
            <a:avLst>
              <a:gd name="adj1" fmla="val -64986"/>
              <a:gd name="adj2" fmla="val 111287"/>
              <a:gd name="adj3" fmla="val 16667"/>
            </a:avLst>
          </a:prstGeom>
          <a:solidFill>
            <a:srgbClr val="91dc56">
              <a:alpha val="50000"/>
            </a:srgbClr>
          </a:solidFill>
          <a:ln w="12600">
            <a:solidFill>
              <a:srgbClr val="91d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 or property assign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Collection Initializers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5640" y="2349360"/>
            <a:ext cx="5545080" cy="54900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&lt;int&gt; numbers = new List&lt;int&gt; { 1, 10, 100 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0920" y="1197000"/>
            <a:ext cx="2133720" cy="762120"/>
          </a:xfrm>
          <a:prstGeom prst="wedgeRoundRectCallout">
            <a:avLst>
              <a:gd name="adj1" fmla="val 38837"/>
              <a:gd name="adj2" fmla="val 115416"/>
              <a:gd name="adj3" fmla="val 16667"/>
            </a:avLst>
          </a:prstGeom>
          <a:solidFill>
            <a:srgbClr val="91dc56">
              <a:alpha val="50000"/>
            </a:srgbClr>
          </a:solidFill>
          <a:ln w="12600">
            <a:solidFill>
              <a:srgbClr val="91d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t implement IEnumer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63920" y="2744640"/>
            <a:ext cx="903240" cy="17640"/>
          </a:xfrm>
          <a:custGeom>
            <a:avLst/>
            <a:gdLst/>
            <a:ahLst/>
            <a:rect l="l" t="t" r="r" b="b"/>
            <a:pathLst>
              <a:path w="569" h="11">
                <a:moveTo>
                  <a:pt x="0" y="4"/>
                </a:moveTo>
                <a:cubicBezTo>
                  <a:pt x="194" y="0"/>
                  <a:pt x="379" y="11"/>
                  <a:pt x="569" y="1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8080" bIns="-28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124000" y="3048120"/>
            <a:ext cx="4038840" cy="137196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&lt;int&gt; numbers = new List&lt;int&gt;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s.Add(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s.Add(1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s.Add(10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933480" y="2421000"/>
            <a:ext cx="1440000" cy="1285920"/>
          </a:xfrm>
          <a:custGeom>
            <a:avLst/>
            <a:gdLst>
              <a:gd name="textAreaLeft" fmla="*/ 0 w 1440000"/>
              <a:gd name="textAreaRight" fmla="*/ 1440000 w 1440000"/>
              <a:gd name="textAreaTop" fmla="*/ 360 h 1285920"/>
              <a:gd name="textAreaBottom" fmla="*/ 1286640 h 1285920"/>
            </a:gdLst>
            <a:ahLst/>
            <a:rect l="textAreaLeft" t="textAreaTop" r="textAreaRight" b="textAreaBottom"/>
            <a:pathLst>
              <a:path w="21600" h="21600">
                <a:moveTo>
                  <a:pt x="10736" y="17550"/>
                </a:moveTo>
                <a:arcTo wR="-6750" hR="-6750" stAng="5432594" swAng="-5530451"/>
                <a:lnTo>
                  <a:pt x="4" y="11107"/>
                </a:lnTo>
                <a:arcTo wR="10800" hR="10800" stAng="10702143" swAng="5530451"/>
                <a:lnTo>
                  <a:pt x="10928" y="-2699"/>
                </a:lnTo>
                <a:lnTo>
                  <a:pt x="15608" y="2070"/>
                </a:lnTo>
                <a:lnTo>
                  <a:pt x="10838" y="675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56000" y="1197000"/>
            <a:ext cx="2133720" cy="762120"/>
          </a:xfrm>
          <a:prstGeom prst="wedgeRoundRectCallout">
            <a:avLst>
              <a:gd name="adj1" fmla="val -56995"/>
              <a:gd name="adj2" fmla="val 113125"/>
              <a:gd name="adj3" fmla="val 16667"/>
            </a:avLst>
          </a:prstGeom>
          <a:solidFill>
            <a:srgbClr val="91dc56">
              <a:alpha val="50000"/>
            </a:srgbClr>
          </a:solidFill>
          <a:ln w="12600">
            <a:solidFill>
              <a:srgbClr val="91d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t have public Add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58920" y="4724280"/>
            <a:ext cx="6912000" cy="82332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ionary&lt;int, string&gt; spellings = new Dictionary&lt;int, string&gt;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 0, "Zero" }, { 1, "One" }, { 2, "Two" }, { 3, "Three" } 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516720" y="3284640"/>
            <a:ext cx="2133720" cy="1050840"/>
          </a:xfrm>
          <a:prstGeom prst="wedgeRoundRectCallout">
            <a:avLst>
              <a:gd name="adj1" fmla="val -56995"/>
              <a:gd name="adj2" fmla="val 95768"/>
              <a:gd name="adj3" fmla="val 16667"/>
            </a:avLst>
          </a:prstGeom>
          <a:solidFill>
            <a:srgbClr val="91dc56">
              <a:alpha val="50000"/>
            </a:srgbClr>
          </a:solidFill>
          <a:ln w="12600">
            <a:solidFill>
              <a:srgbClr val="91d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can take more than one parame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Query Expressions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2387520"/>
            <a:ext cx="7010640" cy="31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urc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p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qu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p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[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]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p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ndit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der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rde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rde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…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p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p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que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340000" y="1341360"/>
            <a:ext cx="1828800" cy="762120"/>
          </a:xfrm>
          <a:prstGeom prst="wedgeRoundRectCallout">
            <a:avLst>
              <a:gd name="adj1" fmla="val -92189"/>
              <a:gd name="adj2" fmla="val 79583"/>
              <a:gd name="adj3" fmla="val 16667"/>
            </a:avLst>
          </a:prstGeom>
          <a:solidFill>
            <a:srgbClr val="91dc56">
              <a:alpha val="50000"/>
            </a:srgbClr>
          </a:solidFill>
          <a:ln w="12600">
            <a:solidFill>
              <a:srgbClr val="91d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s with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1844640"/>
            <a:ext cx="2376720" cy="1008000"/>
          </a:xfrm>
          <a:prstGeom prst="wedgeRoundRectCallout">
            <a:avLst>
              <a:gd name="adj1" fmla="val -89745"/>
              <a:gd name="adj2" fmla="val 62597"/>
              <a:gd name="adj3" fmla="val 16667"/>
            </a:avLst>
          </a:prstGeom>
          <a:solidFill>
            <a:srgbClr val="91dc56">
              <a:alpha val="50000"/>
            </a:srgbClr>
          </a:solidFill>
          <a:ln w="12600">
            <a:solidFill>
              <a:srgbClr val="91d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ero or mor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or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der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08720" y="3789360"/>
            <a:ext cx="2133360" cy="762120"/>
          </a:xfrm>
          <a:prstGeom prst="wedgeRoundRectCallout">
            <a:avLst>
              <a:gd name="adj1" fmla="val -57814"/>
              <a:gd name="adj2" fmla="val 91041"/>
              <a:gd name="adj3" fmla="val 16667"/>
            </a:avLst>
          </a:prstGeom>
          <a:solidFill>
            <a:srgbClr val="91dc56">
              <a:alpha val="50000"/>
            </a:srgbClr>
          </a:solidFill>
          <a:ln w="12600">
            <a:solidFill>
              <a:srgbClr val="91d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s with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35280" y="5300640"/>
            <a:ext cx="1981440" cy="762120"/>
          </a:xfrm>
          <a:prstGeom prst="wedgeRoundRectCallout">
            <a:avLst>
              <a:gd name="adj1" fmla="val -86620"/>
              <a:gd name="adj2" fmla="val -48125"/>
              <a:gd name="adj3" fmla="val 16667"/>
            </a:avLst>
          </a:prstGeom>
          <a:solidFill>
            <a:srgbClr val="91dc56">
              <a:alpha val="50000"/>
            </a:srgbClr>
          </a:solidFill>
          <a:ln w="12600">
            <a:solidFill>
              <a:srgbClr val="91d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onal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ntin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600560" y="3043080"/>
            <a:ext cx="450288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c in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c.State == "WA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 new { c.Name, c.Phone 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598760" y="4871880"/>
            <a:ext cx="543708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Where(c =&gt; c.State == "WA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Select(c =&gt; new { c.Name, c.Phone }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24280" y="3048120"/>
            <a:ext cx="1495440" cy="380880"/>
          </a:xfrm>
          <a:prstGeom prst="rect">
            <a:avLst/>
          </a:prstGeom>
          <a:solidFill>
            <a:srgbClr val="808080">
              <a:alpha val="34000"/>
            </a:srgbClr>
          </a:solidFill>
          <a:ln w="12600">
            <a:solidFill>
              <a:srgbClr val="ff5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19280" y="4876920"/>
            <a:ext cx="1504800" cy="380880"/>
          </a:xfrm>
          <a:prstGeom prst="rect">
            <a:avLst/>
          </a:prstGeom>
          <a:solidFill>
            <a:srgbClr val="808080">
              <a:alpha val="34000"/>
            </a:srgbClr>
          </a:solidFill>
          <a:ln w="12600">
            <a:solidFill>
              <a:srgbClr val="ff5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1" name=""/>
          <p:cNvCxnSpPr>
            <a:stCxn id="259" idx="2"/>
            <a:endCxn id="260" idx="0"/>
          </p:cNvCxnSpPr>
          <p:nvPr/>
        </p:nvCxnSpPr>
        <p:spPr>
          <a:xfrm flipH="1">
            <a:off x="2371320" y="3429000"/>
            <a:ext cx="1301040" cy="1448640"/>
          </a:xfrm>
          <a:prstGeom prst="straightConnector1">
            <a:avLst/>
          </a:prstGeom>
          <a:ln w="12600">
            <a:solidFill>
              <a:srgbClr val="ff5e32"/>
            </a:solidFill>
            <a:miter/>
            <a:tailEnd len="med" type="triangle" w="med"/>
          </a:ln>
        </p:spPr>
      </p:cxn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Query Expressions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20920" y="3046320"/>
            <a:ext cx="263520" cy="381240"/>
          </a:xfrm>
          <a:prstGeom prst="rect">
            <a:avLst/>
          </a:prstGeom>
          <a:solidFill>
            <a:srgbClr val="808080">
              <a:alpha val="34000"/>
            </a:srgbClr>
          </a:solidFill>
          <a:ln w="12600">
            <a:solidFill>
              <a:srgbClr val="ff5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78040" y="5257800"/>
            <a:ext cx="263520" cy="380880"/>
          </a:xfrm>
          <a:prstGeom prst="rect">
            <a:avLst/>
          </a:prstGeom>
          <a:solidFill>
            <a:srgbClr val="808080">
              <a:alpha val="34000"/>
            </a:srgbClr>
          </a:solidFill>
          <a:ln w="12600">
            <a:solidFill>
              <a:srgbClr val="ff5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5" name=""/>
          <p:cNvCxnSpPr>
            <a:stCxn id="266" idx="2"/>
            <a:endCxn id="264" idx="0"/>
          </p:cNvCxnSpPr>
          <p:nvPr/>
        </p:nvCxnSpPr>
        <p:spPr>
          <a:xfrm>
            <a:off x="2459160" y="3425400"/>
            <a:ext cx="351360" cy="1832760"/>
          </a:xfrm>
          <a:prstGeom prst="straightConnector1">
            <a:avLst/>
          </a:prstGeom>
          <a:ln w="12600">
            <a:solidFill>
              <a:srgbClr val="ff5e32"/>
            </a:solidFill>
            <a:miter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>
            <a:off x="2527200" y="3430440"/>
            <a:ext cx="2295720" cy="381240"/>
          </a:xfrm>
          <a:prstGeom prst="rect">
            <a:avLst/>
          </a:prstGeom>
          <a:solidFill>
            <a:srgbClr val="808080">
              <a:alpha val="34000"/>
            </a:srgbClr>
          </a:solidFill>
          <a:ln w="12600">
            <a:solidFill>
              <a:srgbClr val="ff5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389400" y="5257800"/>
            <a:ext cx="2295360" cy="380880"/>
          </a:xfrm>
          <a:prstGeom prst="rect">
            <a:avLst/>
          </a:prstGeom>
          <a:solidFill>
            <a:srgbClr val="808080">
              <a:alpha val="34000"/>
            </a:srgbClr>
          </a:solidFill>
          <a:ln w="12600">
            <a:solidFill>
              <a:srgbClr val="ff5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67" idx="2"/>
            <a:endCxn id="268" idx="0"/>
          </p:cNvCxnSpPr>
          <p:nvPr/>
        </p:nvCxnSpPr>
        <p:spPr>
          <a:xfrm>
            <a:off x="3675240" y="3811320"/>
            <a:ext cx="862560" cy="1446840"/>
          </a:xfrm>
          <a:prstGeom prst="straightConnector1">
            <a:avLst/>
          </a:prstGeom>
          <a:ln w="12600">
            <a:solidFill>
              <a:srgbClr val="ff5e32"/>
            </a:solidFill>
            <a:miter/>
            <a:tailEnd len="med" type="triangle" w="med"/>
          </a:ln>
        </p:spPr>
      </p:cxnSp>
      <p:sp>
        <p:nvSpPr>
          <p:cNvPr id="266" name=""/>
          <p:cNvSpPr/>
          <p:nvPr/>
        </p:nvSpPr>
        <p:spPr>
          <a:xfrm>
            <a:off x="2327400" y="3044880"/>
            <a:ext cx="263520" cy="380880"/>
          </a:xfrm>
          <a:prstGeom prst="rect">
            <a:avLst/>
          </a:prstGeom>
          <a:solidFill>
            <a:srgbClr val="808080">
              <a:alpha val="34000"/>
            </a:srgbClr>
          </a:solidFill>
          <a:ln w="12600">
            <a:solidFill>
              <a:srgbClr val="ff5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65440" y="5640480"/>
            <a:ext cx="263520" cy="380880"/>
          </a:xfrm>
          <a:prstGeom prst="rect">
            <a:avLst/>
          </a:prstGeom>
          <a:solidFill>
            <a:srgbClr val="808080">
              <a:alpha val="34000"/>
            </a:srgbClr>
          </a:solidFill>
          <a:ln w="12600">
            <a:solidFill>
              <a:srgbClr val="ff5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1" name=""/>
          <p:cNvCxnSpPr>
            <a:stCxn id="266" idx="2"/>
            <a:endCxn id="270" idx="0"/>
          </p:cNvCxnSpPr>
          <p:nvPr/>
        </p:nvCxnSpPr>
        <p:spPr>
          <a:xfrm>
            <a:off x="2458800" y="3425760"/>
            <a:ext cx="338760" cy="2215440"/>
          </a:xfrm>
          <a:prstGeom prst="straightConnector1">
            <a:avLst/>
          </a:prstGeom>
          <a:ln w="12600">
            <a:solidFill>
              <a:srgbClr val="ff5e32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2521080" y="3813120"/>
            <a:ext cx="3254400" cy="380880"/>
          </a:xfrm>
          <a:prstGeom prst="rect">
            <a:avLst/>
          </a:prstGeom>
          <a:solidFill>
            <a:srgbClr val="808080">
              <a:alpha val="34000"/>
            </a:srgbClr>
          </a:solidFill>
          <a:ln w="12600">
            <a:solidFill>
              <a:srgbClr val="ff5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44760" y="5640480"/>
            <a:ext cx="3297240" cy="380880"/>
          </a:xfrm>
          <a:prstGeom prst="rect">
            <a:avLst/>
          </a:prstGeom>
          <a:solidFill>
            <a:srgbClr val="808080">
              <a:alpha val="34000"/>
            </a:srgbClr>
          </a:solidFill>
          <a:ln w="12600">
            <a:solidFill>
              <a:srgbClr val="ff5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4" name=""/>
          <p:cNvCxnSpPr>
            <a:stCxn id="272" idx="2"/>
            <a:endCxn id="268" idx="2"/>
          </p:cNvCxnSpPr>
          <p:nvPr/>
        </p:nvCxnSpPr>
        <p:spPr>
          <a:xfrm>
            <a:off x="4148280" y="4193640"/>
            <a:ext cx="389520" cy="1445040"/>
          </a:xfrm>
          <a:prstGeom prst="straightConnector1">
            <a:avLst/>
          </a:prstGeom>
          <a:ln w="12600">
            <a:solidFill>
              <a:srgbClr val="ff5e32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457200" y="3352680"/>
            <a:ext cx="914400" cy="2590920"/>
          </a:xfrm>
          <a:custGeom>
            <a:avLst/>
            <a:gdLst>
              <a:gd name="textAreaLeft" fmla="*/ 122400 w 914400"/>
              <a:gd name="textAreaRight" fmla="*/ 792000 w 91440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19280" y="3429000"/>
            <a:ext cx="934920" cy="380880"/>
          </a:xfrm>
          <a:prstGeom prst="rect">
            <a:avLst/>
          </a:prstGeom>
          <a:solidFill>
            <a:srgbClr val="808080">
              <a:alpha val="34000"/>
            </a:srgbClr>
          </a:solidFill>
          <a:ln w="12600">
            <a:solidFill>
              <a:srgbClr val="ff5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17840" y="5256360"/>
            <a:ext cx="1079280" cy="380880"/>
          </a:xfrm>
          <a:prstGeom prst="rect">
            <a:avLst/>
          </a:prstGeom>
          <a:solidFill>
            <a:srgbClr val="808080">
              <a:alpha val="34000"/>
            </a:srgbClr>
          </a:solidFill>
          <a:ln w="12600">
            <a:solidFill>
              <a:srgbClr val="ff5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8" name=""/>
          <p:cNvCxnSpPr>
            <a:stCxn id="276" idx="2"/>
            <a:endCxn id="277" idx="0"/>
          </p:cNvCxnSpPr>
          <p:nvPr/>
        </p:nvCxnSpPr>
        <p:spPr>
          <a:xfrm>
            <a:off x="2087640" y="3809880"/>
            <a:ext cx="70200" cy="1447200"/>
          </a:xfrm>
          <a:prstGeom prst="straightConnector1">
            <a:avLst/>
          </a:prstGeom>
          <a:ln w="12600">
            <a:solidFill>
              <a:srgbClr val="ff5e32"/>
            </a:solidFill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>
            <a:off x="1617840" y="3801960"/>
            <a:ext cx="907920" cy="389160"/>
          </a:xfrm>
          <a:prstGeom prst="rect">
            <a:avLst/>
          </a:prstGeom>
          <a:solidFill>
            <a:srgbClr val="808080">
              <a:alpha val="34000"/>
            </a:srgbClr>
          </a:solidFill>
          <a:ln w="12600">
            <a:solidFill>
              <a:srgbClr val="ff5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17840" y="5638680"/>
            <a:ext cx="1022040" cy="379440"/>
          </a:xfrm>
          <a:prstGeom prst="rect">
            <a:avLst/>
          </a:prstGeom>
          <a:solidFill>
            <a:srgbClr val="808080">
              <a:alpha val="34000"/>
            </a:srgbClr>
          </a:solidFill>
          <a:ln w="12600">
            <a:solidFill>
              <a:srgbClr val="ff5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1" name=""/>
          <p:cNvCxnSpPr>
            <a:stCxn id="279" idx="2"/>
            <a:endCxn id="280" idx="0"/>
          </p:cNvCxnSpPr>
          <p:nvPr/>
        </p:nvCxnSpPr>
        <p:spPr>
          <a:xfrm>
            <a:off x="2071800" y="4190760"/>
            <a:ext cx="57600" cy="1448280"/>
          </a:xfrm>
          <a:prstGeom prst="straightConnector1">
            <a:avLst/>
          </a:prstGeom>
          <a:ln w="12600">
            <a:solidFill>
              <a:srgbClr val="ff5e32"/>
            </a:solidFill>
            <a:miter/>
            <a:tailEnd len="med" type="triangle" w="med"/>
          </a:ln>
        </p:spPr>
      </p:cxn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ries translate to method inv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, Join, OrderBy, Select, GroupBy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11280" y="2060640"/>
            <a:ext cx="6653160" cy="137196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Enumerable&lt;Contact&gt; phoneListQuery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c in cus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c.State == "WA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new Contact { Name = c.Name, Phone = c.Phone 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Anonymous Types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363920"/>
            <a:ext cx="2953080" cy="164628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class Conta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string Nam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string Phon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25440" y="328464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11280" y="2060640"/>
            <a:ext cx="6653160" cy="137196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 phoneListQuery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c in cus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c.State == "WA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new { Name = c.Name, Phone = c.Phone 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Anonymous Types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19360" y="3287880"/>
            <a:ext cx="4289400" cy="53640"/>
          </a:xfrm>
          <a:custGeom>
            <a:avLst/>
            <a:gdLst/>
            <a:ahLst/>
            <a:rect l="l" t="t" r="r" b="b"/>
            <a:pathLst>
              <a:path w="2702" h="34">
                <a:moveTo>
                  <a:pt x="0" y="0"/>
                </a:moveTo>
                <a:cubicBezTo>
                  <a:pt x="898" y="34"/>
                  <a:pt x="1803" y="7"/>
                  <a:pt x="2702" y="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867280" y="549360"/>
            <a:ext cx="2737080" cy="1600200"/>
          </a:xfrm>
          <a:prstGeom prst="wedgeRoundRectCallout">
            <a:avLst>
              <a:gd name="adj1" fmla="val -53768"/>
              <a:gd name="adj2" fmla="val 99305"/>
              <a:gd name="adj3" fmla="val 16667"/>
            </a:avLst>
          </a:prstGeom>
          <a:solidFill>
            <a:srgbClr val="91dc56">
              <a:alpha val="50000"/>
            </a:srgbClr>
          </a:solidFill>
          <a:ln w="12600">
            <a:solidFill>
              <a:srgbClr val="91d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XX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string Nam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string Phon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42920" y="1197000"/>
            <a:ext cx="2376720" cy="609480"/>
          </a:xfrm>
          <a:prstGeom prst="wedgeRoundRectCallout">
            <a:avLst>
              <a:gd name="adj1" fmla="val -48462"/>
              <a:gd name="adj2" fmla="val 113800"/>
              <a:gd name="adj3" fmla="val 16667"/>
            </a:avLst>
          </a:prstGeom>
          <a:solidFill>
            <a:srgbClr val="91dc56">
              <a:alpha val="50000"/>
            </a:srgbClr>
          </a:solidFill>
          <a:ln w="12600">
            <a:solidFill>
              <a:srgbClr val="91d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Enumerable&lt;XXX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09640" y="2471760"/>
            <a:ext cx="301680" cy="12600"/>
          </a:xfrm>
          <a:custGeom>
            <a:avLst/>
            <a:gdLst/>
            <a:ahLst/>
            <a:rect l="l" t="t" r="r" b="b"/>
            <a:pathLst>
              <a:path w="190" h="8">
                <a:moveTo>
                  <a:pt x="0" y="8"/>
                </a:moveTo>
                <a:cubicBezTo>
                  <a:pt x="68" y="0"/>
                  <a:pt x="118" y="8"/>
                  <a:pt x="19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3120" bIns="-33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58920" y="4581360"/>
            <a:ext cx="4572000" cy="137196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ach (var entry in phoneListQuer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ole.WriteLine(entry.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ole.WriteLine(entry.Phon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16000" y="3716280"/>
            <a:ext cx="1371600" cy="609480"/>
          </a:xfrm>
          <a:prstGeom prst="wedgeRoundRectCallout">
            <a:avLst>
              <a:gd name="adj1" fmla="val 46643"/>
              <a:gd name="adj2" fmla="val 109375"/>
              <a:gd name="adj3" fmla="val 16667"/>
            </a:avLst>
          </a:prstGeom>
          <a:solidFill>
            <a:srgbClr val="91dc56">
              <a:alpha val="50000"/>
            </a:srgbClr>
          </a:solidFill>
          <a:ln w="12600">
            <a:solidFill>
              <a:srgbClr val="91d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373480" y="4975200"/>
            <a:ext cx="301320" cy="12600"/>
          </a:xfrm>
          <a:custGeom>
            <a:avLst/>
            <a:gdLst/>
            <a:ahLst/>
            <a:rect l="l" t="t" r="r" b="b"/>
            <a:pathLst>
              <a:path w="190" h="8">
                <a:moveTo>
                  <a:pt x="0" y="8"/>
                </a:moveTo>
                <a:cubicBezTo>
                  <a:pt x="68" y="0"/>
                  <a:pt x="118" y="8"/>
                  <a:pt x="19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3120" bIns="-33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Expression Trees</a:t>
            </a:r>
            <a:br>
              <a:rPr sz="36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de as Data</a:t>
            </a:r>
            <a:endParaRPr b="0" lang="en-US" sz="32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58920" y="2492280"/>
            <a:ext cx="7058160" cy="52128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dicate&lt;Customer&gt; test = c =&gt; c.State == "WA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258920" y="3429000"/>
            <a:ext cx="7058160" cy="52128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dicate&lt;Customer&gt; test = new Predicate&lt;Customer&gt;(XXX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8200" y="2637000"/>
            <a:ext cx="609480" cy="1676160"/>
          </a:xfrm>
          <a:custGeom>
            <a:avLst/>
            <a:gdLst>
              <a:gd name="textAreaLeft" fmla="*/ 81360 w 609480"/>
              <a:gd name="textAreaRight" fmla="*/ 528120 w 609480"/>
              <a:gd name="textAreaTop" fmla="*/ 293040 h 1676160"/>
              <a:gd name="textAreaBottom" fmla="*/ 121536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58920" y="4078440"/>
            <a:ext cx="7058160" cy="101448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e static bool XXX(Customer c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urn c.State == "WA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58920" y="1844640"/>
            <a:ext cx="7058160" cy="52128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delegate bool Predicate&lt;T&gt;(T item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The Evolution of C#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391400">
            <a:off x="1760040" y="5497560"/>
            <a:ext cx="287640" cy="287280"/>
          </a:xfrm>
          <a:prstGeom prst="ellipse">
            <a:avLst/>
          </a:prstGeom>
          <a:solidFill>
            <a:srgbClr val="4797e2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960560" y="4448520"/>
            <a:ext cx="454320" cy="10598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391400">
            <a:off x="2328480" y="4173120"/>
            <a:ext cx="287280" cy="287280"/>
          </a:xfrm>
          <a:prstGeom prst="ellipse">
            <a:avLst/>
          </a:prstGeom>
          <a:solidFill>
            <a:srgbClr val="91dc56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527200" y="3124440"/>
            <a:ext cx="454320" cy="10598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391400">
            <a:off x="2895120" y="2849040"/>
            <a:ext cx="287280" cy="287640"/>
          </a:xfrm>
          <a:prstGeom prst="ellipse">
            <a:avLst/>
          </a:prstGeom>
          <a:solidFill>
            <a:srgbClr val="ff5e32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095640" y="1802160"/>
            <a:ext cx="454320" cy="10598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0160" y="508464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# 1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5080" y="37893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# 2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21080" y="249228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# 3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40000" y="54450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d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43280" y="409896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278136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guage Integrated Qu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 rot="1404000">
            <a:off x="7380000" y="2707920"/>
            <a:ext cx="934920" cy="2554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Expression Trees</a:t>
            </a:r>
            <a:br>
              <a:rPr sz="36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de as Data</a:t>
            </a:r>
            <a:endParaRPr b="0" lang="en-US" sz="32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58920" y="2492280"/>
            <a:ext cx="7058160" cy="52128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ression&lt;Predicate&lt;Customer&gt;&gt; test = c =&gt; c.State == "WA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8200" y="2637000"/>
            <a:ext cx="609480" cy="1676160"/>
          </a:xfrm>
          <a:custGeom>
            <a:avLst/>
            <a:gdLst>
              <a:gd name="textAreaLeft" fmla="*/ 81360 w 609480"/>
              <a:gd name="textAreaRight" fmla="*/ 528120 w 609480"/>
              <a:gd name="textAreaTop" fmla="*/ 293040 h 1676160"/>
              <a:gd name="textAreaBottom" fmla="*/ 121536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58920" y="1844640"/>
            <a:ext cx="7058160" cy="52128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delegate bool Predicate&lt;T&gt;(T item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58920" y="3429000"/>
            <a:ext cx="7416720" cy="249408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meterExpression c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ression.Parameter(typeof(Customer), "c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ression expr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ression.Equal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ression.Property(c, typeof(Customer).GetProperty("State")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ression.Constant("WA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ression&lt;Predicate&lt;Customer&gt;&gt; test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ression.Lambda&lt;Predicate&lt;Customer&gt;&gt;(expr, c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60560" y="1969920"/>
            <a:ext cx="68803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200" spc="-1" strike="noStrike">
                <a:solidFill>
                  <a:srgbClr val="ff5e32"/>
                </a:solidFill>
                <a:latin typeface="Arial"/>
              </a:rPr>
              <a:t>Expression Trees</a:t>
            </a:r>
            <a:endParaRPr b="0" lang="en-US" sz="32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982880" y="3685680"/>
            <a:ext cx="6881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887400"/>
            <a:ext cx="9144000" cy="1317600"/>
          </a:xfrm>
          <a:prstGeom prst="rect">
            <a:avLst/>
          </a:prstGeom>
          <a:gradFill rotWithShape="0">
            <a:gsLst>
              <a:gs pos="0">
                <a:srgbClr val="ffffff">
                  <a:alpha val="25098"/>
                </a:srgbClr>
              </a:gs>
              <a:gs pos="100000">
                <a:srgbClr val="000000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66560" y="1049400"/>
            <a:ext cx="3143520" cy="99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Automatic properties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1628640"/>
            <a:ext cx="4681440" cy="150768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class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string Nam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decimal Pric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Automatic properties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11280" y="1628640"/>
            <a:ext cx="4681440" cy="397368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class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ing nam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imal pric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string Nam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 { return name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 { name = value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decimal Pric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 { return price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 { price = value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Automatic properties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1628640"/>
            <a:ext cx="4681440" cy="150768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class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string Name { get; set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decimal Price { get; set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508720" y="907920"/>
            <a:ext cx="2663640" cy="1800360"/>
          </a:xfrm>
          <a:prstGeom prst="wedgeRoundRectCallout">
            <a:avLst>
              <a:gd name="adj1" fmla="val -98273"/>
              <a:gd name="adj2" fmla="val 30953"/>
              <a:gd name="adj3" fmla="val 16667"/>
            </a:avLst>
          </a:prstGeom>
          <a:solidFill>
            <a:srgbClr val="91dc56">
              <a:alpha val="50000"/>
            </a:srgbClr>
          </a:solidFill>
          <a:ln w="12600">
            <a:solidFill>
              <a:srgbClr val="91d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e str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□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string Nam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 { return □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 { □ = value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35640" y="2852640"/>
            <a:ext cx="2016000" cy="1008000"/>
          </a:xfrm>
          <a:prstGeom prst="wedgeRoundRectCallout">
            <a:avLst>
              <a:gd name="adj1" fmla="val -103305"/>
              <a:gd name="adj2" fmla="val -60865"/>
              <a:gd name="adj3" fmla="val 16667"/>
            </a:avLst>
          </a:prstGeom>
          <a:solidFill>
            <a:srgbClr val="91dc56">
              <a:alpha val="50000"/>
            </a:srgbClr>
          </a:solidFill>
          <a:ln w="12600">
            <a:solidFill>
              <a:srgbClr val="91d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t have both get and 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960560" y="1969920"/>
            <a:ext cx="68803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200" spc="-1" strike="noStrike">
                <a:solidFill>
                  <a:srgbClr val="ff5e32"/>
                </a:solidFill>
                <a:latin typeface="Arial"/>
              </a:rPr>
              <a:t>LINQ Technical Preview</a:t>
            </a:r>
            <a:endParaRPr b="0" lang="en-US" sz="32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982880" y="3685680"/>
            <a:ext cx="6881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887400"/>
            <a:ext cx="9144000" cy="1317600"/>
          </a:xfrm>
          <a:prstGeom prst="rect">
            <a:avLst/>
          </a:prstGeom>
          <a:gradFill rotWithShape="0">
            <a:gsLst>
              <a:gs pos="0">
                <a:srgbClr val="ffffff">
                  <a:alpha val="25098"/>
                </a:srgbClr>
              </a:gs>
              <a:gs pos="100000">
                <a:srgbClr val="000000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466560" y="1049400"/>
            <a:ext cx="3143520" cy="99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C# 3.0 Language Innovations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79280" y="1442880"/>
            <a:ext cx="484416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 contacts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c in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c.State == "WA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 new { c.Name, c.Phone 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77480" y="3805200"/>
            <a:ext cx="577836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 contacts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Where(c =&gt; c.State == "WA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Select(c =&gt; new { c.Name, c.Phone }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1981080"/>
            <a:ext cx="1295280" cy="312444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546840 h 3124440"/>
              <a:gd name="textAreaBottom" fmla="*/ 2265480 h 31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880" y="5257800"/>
            <a:ext cx="1524240" cy="914400"/>
          </a:xfrm>
          <a:prstGeom prst="wedgeRoundRectCallout">
            <a:avLst>
              <a:gd name="adj1" fmla="val 74583"/>
              <a:gd name="adj2" fmla="val -67884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nsion meth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267080" y="3200400"/>
            <a:ext cx="1676520" cy="914400"/>
          </a:xfrm>
          <a:prstGeom prst="wedgeRoundRectCallout">
            <a:avLst>
              <a:gd name="adj1" fmla="val -61648"/>
              <a:gd name="adj2" fmla="val 103995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mbda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95880" y="1219320"/>
            <a:ext cx="1905120" cy="914400"/>
          </a:xfrm>
          <a:prstGeom prst="wedgeRoundRectCallout">
            <a:avLst>
              <a:gd name="adj1" fmla="val -87750"/>
              <a:gd name="adj2" fmla="val 44967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ry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400800" y="5562720"/>
            <a:ext cx="1676520" cy="914400"/>
          </a:xfrm>
          <a:prstGeom prst="wedgeRoundRectCallout">
            <a:avLst>
              <a:gd name="adj1" fmla="val -79356"/>
              <a:gd name="adj2" fmla="val -57986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 initializ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5562720"/>
            <a:ext cx="1676520" cy="914400"/>
          </a:xfrm>
          <a:prstGeom prst="wedgeRoundRectCallout">
            <a:avLst>
              <a:gd name="adj1" fmla="val 74430"/>
              <a:gd name="adj2" fmla="val -64759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onymous ty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4920" y="2438280"/>
            <a:ext cx="1904760" cy="914400"/>
          </a:xfrm>
          <a:prstGeom prst="wedgeRoundRectCallout">
            <a:avLst>
              <a:gd name="adj1" fmla="val 44750"/>
              <a:gd name="adj2" fmla="val 102083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l variable type in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20000" y="2349360"/>
            <a:ext cx="1676160" cy="914400"/>
          </a:xfrm>
          <a:prstGeom prst="wedgeRoundRectCallout">
            <a:avLst>
              <a:gd name="adj1" fmla="val -30208"/>
              <a:gd name="adj2" fmla="val 26564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ression tre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88000" y="3141720"/>
            <a:ext cx="1676520" cy="914400"/>
          </a:xfrm>
          <a:prstGeom prst="wedgeRoundRectCallout">
            <a:avLst>
              <a:gd name="adj1" fmla="val -30208"/>
              <a:gd name="adj2" fmla="val 26564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matic proper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948360" y="3933720"/>
            <a:ext cx="1676520" cy="914400"/>
          </a:xfrm>
          <a:prstGeom prst="wedgeRoundRectCallout">
            <a:avLst>
              <a:gd name="adj1" fmla="val -30208"/>
              <a:gd name="adj2" fmla="val 26564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al meth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More Information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611280" y="1197000"/>
          <a:ext cx="7993080" cy="4286160"/>
        </p:xfrm>
        <a:graphic>
          <a:graphicData uri="http://schemas.openxmlformats.org/drawingml/2006/table">
            <a:tbl>
              <a:tblPr/>
              <a:tblGrid>
                <a:gridCol w="2524680"/>
                <a:gridCol w="2734920"/>
                <a:gridCol w="2733480"/>
              </a:tblGrid>
              <a:tr h="57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es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dnes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urs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5e32"/>
                          </a:solidFill>
                          <a:latin typeface="Arial"/>
                        </a:rPr>
                        <a:t>DEV222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# Through the Age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:15 - 15:3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m 1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5e32"/>
                          </a:solidFill>
                          <a:latin typeface="Arial"/>
                        </a:rPr>
                        <a:t>DEV323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# 3.0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:00 - 10:15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m 1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5e32"/>
                          </a:solidFill>
                          <a:latin typeface="Arial"/>
                        </a:rPr>
                        <a:t>DEV306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NQ to SQL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:00 - 10:15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m 1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8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5e32"/>
                          </a:solidFill>
                          <a:latin typeface="Arial"/>
                        </a:rPr>
                        <a:t>DEV223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NQ Overview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:00 - 17:15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m 1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5e32"/>
                          </a:solidFill>
                          <a:latin typeface="Arial"/>
                        </a:rPr>
                        <a:t>DEVWD12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lore C#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:30 - 14:45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m 1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7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5e32"/>
                          </a:solidFill>
                          <a:latin typeface="Arial"/>
                        </a:rPr>
                        <a:t>DEV216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# Tips and Trick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:45 - 19:00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m 1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5e32"/>
                          </a:solidFill>
                          <a:latin typeface="Arial"/>
                        </a:rPr>
                        <a:t>DEV323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# 3.0 (Repeat)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:00 - 18:15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m 1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1041480" y="5734080"/>
            <a:ext cx="70311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b1b"/>
                </a:solidFill>
                <a:latin typeface="Arial"/>
              </a:rPr>
              <a:t>http://msdn.microsoft.com/netframework/future/lin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887400"/>
            <a:ext cx="9144000" cy="1317600"/>
          </a:xfrm>
          <a:prstGeom prst="rect">
            <a:avLst/>
          </a:prstGeom>
          <a:gradFill rotWithShape="0">
            <a:gsLst>
              <a:gs pos="0">
                <a:srgbClr val="ffffff">
                  <a:alpha val="25098"/>
                </a:srgbClr>
              </a:gs>
              <a:gs pos="100000">
                <a:srgbClr val="000000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466560" y="1093680"/>
            <a:ext cx="2629080" cy="115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C# 3.0 Design Goals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e objects, relational data, and X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conciseness of 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functional programming constr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tie language to specific A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ain 100% backwards compat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 rot="1404000">
            <a:off x="7380000" y="2707920"/>
            <a:ext cx="934920" cy="2554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324611" descr=""/>
          <p:cNvPicPr/>
          <p:nvPr/>
        </p:nvPicPr>
        <p:blipFill>
          <a:blip r:embed="rId2"/>
          <a:stretch/>
        </p:blipFill>
        <p:spPr>
          <a:xfrm>
            <a:off x="1719360" y="2343240"/>
            <a:ext cx="5705280" cy="2171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26658"/>
          <p:cNvSpPr/>
          <p:nvPr/>
        </p:nvSpPr>
        <p:spPr>
          <a:xfrm>
            <a:off x="1643040" y="3971880"/>
            <a:ext cx="579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2006 Microsoft Corporation. All rights reserved.</a:t>
            </a:r>
            <a:br>
              <a:rPr sz="1000"/>
            </a:br>
            <a:r>
              <a:rPr b="1" lang="en-US" sz="1000" spc="-1" strike="noStrike">
                <a:solidFill>
                  <a:srgbClr val="ff5e32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ff5e32"/>
                </a:solidFill>
                <a:latin typeface="Arial"/>
                <a:ea typeface="Arial"/>
              </a:rPr>
              <a:t>This presentation is for informational purposes only.</a:t>
            </a:r>
            <a:br>
              <a:rPr sz="1000"/>
            </a:br>
            <a:r>
              <a:rPr b="1" lang="en-US" sz="1000" spc="-1" strike="noStrike">
                <a:solidFill>
                  <a:srgbClr val="ff5e32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ff5e32"/>
                </a:solidFill>
                <a:latin typeface="Arial"/>
                <a:ea typeface="Arial"/>
              </a:rPr>
              <a:t>MICROSOFT MAKES NO WARRANTIES, EXPRESS OR IMPLIED, IN THIS SUMMARY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Rectangle 326659" descr=""/>
          <p:cNvPicPr/>
          <p:nvPr/>
        </p:nvPicPr>
        <p:blipFill>
          <a:blip r:embed="rId2"/>
          <a:stretch/>
        </p:blipFill>
        <p:spPr>
          <a:xfrm>
            <a:off x="1909800" y="3006720"/>
            <a:ext cx="5324400" cy="844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60560" y="1969920"/>
            <a:ext cx="68803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200" spc="-1" strike="noStrike">
                <a:solidFill>
                  <a:srgbClr val="ff5e32"/>
                </a:solidFill>
                <a:latin typeface="Arial"/>
              </a:rPr>
              <a:t>Language Integrated Query</a:t>
            </a:r>
            <a:endParaRPr b="0" lang="en-US" sz="32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982880" y="3685680"/>
            <a:ext cx="6881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887400"/>
            <a:ext cx="9144000" cy="1317600"/>
          </a:xfrm>
          <a:prstGeom prst="rect">
            <a:avLst/>
          </a:prstGeom>
          <a:gradFill rotWithShape="0">
            <a:gsLst>
              <a:gs pos="0">
                <a:srgbClr val="ffffff">
                  <a:alpha val="25098"/>
                </a:srgbClr>
              </a:gs>
              <a:gs pos="100000">
                <a:srgbClr val="000000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66560" y="1049400"/>
            <a:ext cx="3143520" cy="99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C# 3.0 Language Innovations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79280" y="1442880"/>
            <a:ext cx="484416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 contacts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c in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c.State == "WA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 new { c.Name, c.Phone 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77480" y="3805200"/>
            <a:ext cx="577836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 contacts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Where(c =&gt; c.State == "WA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Select(c =&gt; new { c.Name, c.Phone }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4160" y="4130640"/>
            <a:ext cx="466920" cy="57240"/>
          </a:xfrm>
          <a:custGeom>
            <a:avLst/>
            <a:gdLst/>
            <a:ahLst/>
            <a:rect l="l" t="t" r="r" b="b"/>
            <a:pathLst>
              <a:path w="294" h="36">
                <a:moveTo>
                  <a:pt x="0" y="31"/>
                </a:moveTo>
                <a:cubicBezTo>
                  <a:pt x="84" y="0"/>
                  <a:pt x="177" y="36"/>
                  <a:pt x="262" y="9"/>
                </a:cubicBezTo>
                <a:cubicBezTo>
                  <a:pt x="294" y="17"/>
                  <a:pt x="292" y="6"/>
                  <a:pt x="292" y="2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62040" y="4861080"/>
            <a:ext cx="960480" cy="95040"/>
          </a:xfrm>
          <a:custGeom>
            <a:avLst/>
            <a:gdLst/>
            <a:ahLst/>
            <a:rect l="l" t="t" r="r" b="b"/>
            <a:pathLst>
              <a:path w="605" h="60">
                <a:moveTo>
                  <a:pt x="0" y="60"/>
                </a:moveTo>
                <a:cubicBezTo>
                  <a:pt x="157" y="0"/>
                  <a:pt x="417" y="60"/>
                  <a:pt x="605" y="6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79680" y="5249880"/>
            <a:ext cx="960480" cy="95400"/>
          </a:xfrm>
          <a:custGeom>
            <a:avLst/>
            <a:gdLst/>
            <a:ahLst/>
            <a:rect l="l" t="t" r="r" b="b"/>
            <a:pathLst>
              <a:path w="605" h="60">
                <a:moveTo>
                  <a:pt x="0" y="60"/>
                </a:moveTo>
                <a:cubicBezTo>
                  <a:pt x="157" y="0"/>
                  <a:pt x="417" y="60"/>
                  <a:pt x="605" y="6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49600" y="4869000"/>
            <a:ext cx="2743200" cy="114120"/>
          </a:xfrm>
          <a:custGeom>
            <a:avLst/>
            <a:gdLst/>
            <a:ahLst/>
            <a:rect l="l" t="t" r="r" b="b"/>
            <a:pathLst>
              <a:path w="1823" h="58">
                <a:moveTo>
                  <a:pt x="0" y="41"/>
                </a:moveTo>
                <a:cubicBezTo>
                  <a:pt x="128" y="48"/>
                  <a:pt x="263" y="58"/>
                  <a:pt x="387" y="19"/>
                </a:cubicBezTo>
                <a:cubicBezTo>
                  <a:pt x="531" y="26"/>
                  <a:pt x="673" y="35"/>
                  <a:pt x="817" y="41"/>
                </a:cubicBezTo>
                <a:cubicBezTo>
                  <a:pt x="1006" y="34"/>
                  <a:pt x="1165" y="24"/>
                  <a:pt x="1356" y="19"/>
                </a:cubicBezTo>
                <a:cubicBezTo>
                  <a:pt x="1416" y="0"/>
                  <a:pt x="1365" y="13"/>
                  <a:pt x="1495" y="19"/>
                </a:cubicBezTo>
                <a:cubicBezTo>
                  <a:pt x="1687" y="28"/>
                  <a:pt x="1659" y="26"/>
                  <a:pt x="1823" y="2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65760" y="5295960"/>
            <a:ext cx="2500200" cy="46080"/>
          </a:xfrm>
          <a:custGeom>
            <a:avLst/>
            <a:gdLst/>
            <a:ahLst/>
            <a:rect l="l" t="t" r="r" b="b"/>
            <a:pathLst>
              <a:path w="1575" h="29">
                <a:moveTo>
                  <a:pt x="0" y="0"/>
                </a:moveTo>
                <a:cubicBezTo>
                  <a:pt x="253" y="22"/>
                  <a:pt x="529" y="3"/>
                  <a:pt x="780" y="7"/>
                </a:cubicBezTo>
                <a:cubicBezTo>
                  <a:pt x="967" y="25"/>
                  <a:pt x="1154" y="10"/>
                  <a:pt x="1341" y="29"/>
                </a:cubicBezTo>
                <a:cubicBezTo>
                  <a:pt x="1349" y="29"/>
                  <a:pt x="1509" y="14"/>
                  <a:pt x="1575" y="1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" bIns="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08320" y="5308560"/>
            <a:ext cx="567000" cy="11160"/>
          </a:xfrm>
          <a:custGeom>
            <a:avLst/>
            <a:gdLst/>
            <a:ahLst/>
            <a:rect l="l" t="t" r="r" b="b"/>
            <a:pathLst>
              <a:path w="357" h="7">
                <a:moveTo>
                  <a:pt x="0" y="0"/>
                </a:moveTo>
                <a:cubicBezTo>
                  <a:pt x="119" y="2"/>
                  <a:pt x="238" y="7"/>
                  <a:pt x="357" y="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4560" bIns="-34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1981080"/>
            <a:ext cx="1295280" cy="312444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546840 h 3124440"/>
              <a:gd name="textAreaBottom" fmla="*/ 2265480 h 31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5257800"/>
            <a:ext cx="1524240" cy="914400"/>
          </a:xfrm>
          <a:prstGeom prst="wedgeRoundRectCallout">
            <a:avLst>
              <a:gd name="adj1" fmla="val 74583"/>
              <a:gd name="adj2" fmla="val -67884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nsion meth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67080" y="3200400"/>
            <a:ext cx="1676520" cy="914400"/>
          </a:xfrm>
          <a:prstGeom prst="wedgeRoundRectCallout">
            <a:avLst>
              <a:gd name="adj1" fmla="val -61648"/>
              <a:gd name="adj2" fmla="val 103995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mbda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1219320"/>
            <a:ext cx="1905120" cy="914400"/>
          </a:xfrm>
          <a:prstGeom prst="wedgeRoundRectCallout">
            <a:avLst>
              <a:gd name="adj1" fmla="val -87750"/>
              <a:gd name="adj2" fmla="val 44967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ry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5562720"/>
            <a:ext cx="1676520" cy="914400"/>
          </a:xfrm>
          <a:prstGeom prst="wedgeRoundRectCallout">
            <a:avLst>
              <a:gd name="adj1" fmla="val -79356"/>
              <a:gd name="adj2" fmla="val -57986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 initializ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5562720"/>
            <a:ext cx="1676520" cy="914400"/>
          </a:xfrm>
          <a:prstGeom prst="wedgeRoundRectCallout">
            <a:avLst>
              <a:gd name="adj1" fmla="val 74430"/>
              <a:gd name="adj2" fmla="val -64759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onymous ty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6320" y="2114640"/>
            <a:ext cx="631800" cy="83880"/>
          </a:xfrm>
          <a:custGeom>
            <a:avLst/>
            <a:gdLst/>
            <a:ahLst/>
            <a:rect l="l" t="t" r="r" b="b"/>
            <a:pathLst>
              <a:path w="430" h="49">
                <a:moveTo>
                  <a:pt x="0" y="49"/>
                </a:moveTo>
                <a:cubicBezTo>
                  <a:pt x="148" y="0"/>
                  <a:pt x="12" y="43"/>
                  <a:pt x="430" y="4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8160" bIns="38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25680" y="2509920"/>
            <a:ext cx="774720" cy="74520"/>
          </a:xfrm>
          <a:custGeom>
            <a:avLst/>
            <a:gdLst/>
            <a:ahLst/>
            <a:rect l="l" t="t" r="r" b="b"/>
            <a:pathLst>
              <a:path w="540" h="30">
                <a:moveTo>
                  <a:pt x="0" y="30"/>
                </a:moveTo>
                <a:cubicBezTo>
                  <a:pt x="179" y="0"/>
                  <a:pt x="357" y="18"/>
                  <a:pt x="540" y="1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8800" bIns="28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35400" y="2906640"/>
            <a:ext cx="752400" cy="42840"/>
          </a:xfrm>
          <a:custGeom>
            <a:avLst/>
            <a:gdLst/>
            <a:ahLst/>
            <a:rect l="l" t="t" r="r" b="b"/>
            <a:pathLst>
              <a:path w="518" h="20">
                <a:moveTo>
                  <a:pt x="0" y="20"/>
                </a:moveTo>
                <a:cubicBezTo>
                  <a:pt x="164" y="18"/>
                  <a:pt x="327" y="17"/>
                  <a:pt x="491" y="13"/>
                </a:cubicBezTo>
                <a:cubicBezTo>
                  <a:pt x="518" y="12"/>
                  <a:pt x="502" y="0"/>
                  <a:pt x="515" y="1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880" bIns="-2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438280"/>
            <a:ext cx="1904760" cy="914400"/>
          </a:xfrm>
          <a:prstGeom prst="wedgeRoundRectCallout">
            <a:avLst>
              <a:gd name="adj1" fmla="val 44750"/>
              <a:gd name="adj2" fmla="val 102083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l variable type in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20000" y="2349360"/>
            <a:ext cx="1676160" cy="914400"/>
          </a:xfrm>
          <a:prstGeom prst="wedgeRoundRectCallout">
            <a:avLst>
              <a:gd name="adj1" fmla="val -30208"/>
              <a:gd name="adj2" fmla="val 26564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ression tre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88000" y="3141720"/>
            <a:ext cx="1676520" cy="914400"/>
          </a:xfrm>
          <a:prstGeom prst="wedgeRoundRectCallout">
            <a:avLst>
              <a:gd name="adj1" fmla="val -30208"/>
              <a:gd name="adj2" fmla="val 26564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matic proper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48360" y="3933720"/>
            <a:ext cx="1676520" cy="914400"/>
          </a:xfrm>
          <a:prstGeom prst="wedgeRoundRectCallout">
            <a:avLst>
              <a:gd name="adj1" fmla="val -30208"/>
              <a:gd name="adj2" fmla="val 26564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al meth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Local Variable Type Inference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1600200"/>
            <a:ext cx="6477120" cy="150768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i = 5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ing s = "Hello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uble d = 1.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[] numbers = new int[] {1, 2, 3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ionary&lt;int,Order&gt; orders = new Dictionary&lt;int,Order&gt;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3352680"/>
            <a:ext cx="6477120" cy="150768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 i = 5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 s = "Hello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 d = 1.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 numbers = new int[] {1, 2, 3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 orders = new Dictionary&lt;int,Order&gt;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362320"/>
            <a:ext cx="685800" cy="1752480"/>
          </a:xfrm>
          <a:custGeom>
            <a:avLst/>
            <a:gdLst>
              <a:gd name="textAreaLeft" fmla="*/ 91800 w 685800"/>
              <a:gd name="textAreaRight" fmla="*/ 594000 w 685800"/>
              <a:gd name="textAreaTop" fmla="*/ 306720 h 1752480"/>
              <a:gd name="textAreaBottom" fmla="*/ 127080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7923960" y="2362320"/>
            <a:ext cx="685800" cy="1752480"/>
          </a:xfrm>
          <a:custGeom>
            <a:avLst/>
            <a:gdLst>
              <a:gd name="textAreaLeft" fmla="*/ 91800 w 685800"/>
              <a:gd name="textAreaRight" fmla="*/ 594000 w 685800"/>
              <a:gd name="textAreaTop" fmla="*/ 306720 h 1752480"/>
              <a:gd name="textAreaBottom" fmla="*/ 127080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5181480"/>
            <a:ext cx="2390760" cy="839880"/>
          </a:xfrm>
          <a:prstGeom prst="wedgeRoundRectCallout">
            <a:avLst>
              <a:gd name="adj1" fmla="val -49268"/>
              <a:gd name="adj2" fmla="val -97824"/>
              <a:gd name="adj3" fmla="val 16667"/>
            </a:avLst>
          </a:prstGeom>
          <a:solidFill>
            <a:srgbClr val="91dc56">
              <a:alpha val="50000"/>
            </a:srgbClr>
          </a:solidFill>
          <a:ln w="12600">
            <a:solidFill>
              <a:srgbClr val="91d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ype on the right hand sid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Extension Methods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1773360"/>
            <a:ext cx="7777080" cy="224748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space MyStu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static class Exten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static string Concatenate(this IEnumerable&lt;string&gt; string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ing separator)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4292640"/>
            <a:ext cx="3240360" cy="52128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ing MyStuff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1280" y="4941720"/>
            <a:ext cx="5832360" cy="76788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ing[] names = new string[] { "Axel", "Mia", "Niels" 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ing s = names.Concatenate(", 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64080" y="3141720"/>
            <a:ext cx="324000" cy="11160"/>
          </a:xfrm>
          <a:custGeom>
            <a:avLst/>
            <a:gdLst/>
            <a:ahLst/>
            <a:rect l="l" t="t" r="r" b="b"/>
            <a:pathLst>
              <a:path w="204" h="7">
                <a:moveTo>
                  <a:pt x="0" y="7"/>
                </a:moveTo>
                <a:cubicBezTo>
                  <a:pt x="56" y="5"/>
                  <a:pt x="111" y="0"/>
                  <a:pt x="167" y="0"/>
                </a:cubicBezTo>
                <a:cubicBezTo>
                  <a:pt x="180" y="0"/>
                  <a:pt x="204" y="7"/>
                  <a:pt x="204" y="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4560" bIns="-34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88000" y="1052640"/>
            <a:ext cx="1895400" cy="761760"/>
          </a:xfrm>
          <a:prstGeom prst="wedgeRoundRectCallout">
            <a:avLst>
              <a:gd name="adj1" fmla="val -41120"/>
              <a:gd name="adj2" fmla="val 175416"/>
              <a:gd name="adj3" fmla="val 16667"/>
            </a:avLst>
          </a:prstGeom>
          <a:solidFill>
            <a:srgbClr val="91dc56">
              <a:alpha val="50000"/>
            </a:srgbClr>
          </a:solidFill>
          <a:ln w="12600">
            <a:solidFill>
              <a:srgbClr val="91d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ns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211640" y="3933720"/>
            <a:ext cx="2332080" cy="762120"/>
          </a:xfrm>
          <a:prstGeom prst="wedgeRoundRectCallout">
            <a:avLst>
              <a:gd name="adj1" fmla="val -71101"/>
              <a:gd name="adj2" fmla="val 35000"/>
              <a:gd name="adj3" fmla="val 16667"/>
            </a:avLst>
          </a:prstGeom>
          <a:solidFill>
            <a:srgbClr val="91dc56">
              <a:alpha val="50000"/>
            </a:srgbClr>
          </a:solidFill>
          <a:ln w="12600">
            <a:solidFill>
              <a:srgbClr val="91d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ings extensions into sc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4149720"/>
            <a:ext cx="2286000" cy="1371600"/>
          </a:xfrm>
          <a:prstGeom prst="wedgeRoundRectCallout">
            <a:avLst>
              <a:gd name="adj1" fmla="val -77986"/>
              <a:gd name="adj2" fmla="val 47106"/>
              <a:gd name="adj3" fmla="val 16667"/>
            </a:avLst>
          </a:prstGeom>
          <a:solidFill>
            <a:srgbClr val="91dc56">
              <a:alpha val="50000"/>
            </a:srgbClr>
          </a:solidFill>
          <a:ln w="12600">
            <a:solidFill>
              <a:srgbClr val="91d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.Foo(x, 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XX.Foo(obj, x, 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6000" y="5877000"/>
            <a:ext cx="1828800" cy="609480"/>
          </a:xfrm>
          <a:prstGeom prst="wedgeRoundRectCallout">
            <a:avLst>
              <a:gd name="adj1" fmla="val -48351"/>
              <a:gd name="adj2" fmla="val -93750"/>
              <a:gd name="adj3" fmla="val 16667"/>
            </a:avLst>
          </a:prstGeom>
          <a:solidFill>
            <a:srgbClr val="91dc56">
              <a:alpha val="50000"/>
            </a:srgbClr>
          </a:solidFill>
          <a:ln w="12600">
            <a:solidFill>
              <a:srgbClr val="91d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lliSen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Lambda Expressions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1341360"/>
            <a:ext cx="6697440" cy="323388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delegate bool Predicate&lt;T&gt;(T obj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class List&lt;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List&lt;T&gt; FindAll(Predicate&lt;T&gt; test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List&lt;T&gt; result = new List&lt;T&gt;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ach (T item in thi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(test(item)) result.Add(item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urn resul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Lambda Expressions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1280" y="1341360"/>
            <a:ext cx="6697440" cy="400428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class My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static void Main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&lt;Customer&gt; customers = GetCustomerLis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&lt;Customer&gt; locals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ers.FindAll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 Predicate&lt;Customer&gt;(StateEqualsW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ic bool StateEqualsWA(Customer c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urn c.State == "WA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10:59:58Z</dcterms:created>
  <dc:creator>Anders Hejlsberg</dc:creator>
  <dc:description/>
  <dc:language>en-US</dc:language>
  <cp:lastModifiedBy>Anders Hejlsberg</cp:lastModifiedBy>
  <dcterms:modified xsi:type="dcterms:W3CDTF">2006-11-08T10:00:29Z</dcterms:modified>
  <cp:revision>30</cp:revision>
  <dc:subject>TechEd Developers 2006</dc:subject>
  <dc:title>C# 3.0</dc:title>
</cp:coreProperties>
</file>